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5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camera.wav" ContentType="audio/x-wav"/>
  <Override PartName="/ppt/media/image10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129-C2E3-4982-BA6B-2686B31E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E05C-142B-4FA4-92A2-88875FE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DB3F1-3D6C-44A3-ACAA-EFDB1431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74BA0-0E59-4ECE-BBA7-8C717E65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329B9-E8C7-4175-9B67-9B4D36FE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066FF-2A81-48D4-93BE-22BF4C6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6DD47-DE96-4B8B-9726-55E7C54C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9BF96-0D50-421B-8EF7-98ABB2F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5765-E3E9-405D-B925-2246AC6B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8CBD0-CB81-448C-9CF3-AC63A177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65B8D-7FFF-4774-85B6-76E2AA05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51020-81BA-46EA-AFF4-18591522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514-1FD4-43D6-BF68-16D30E0D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44FA0-6E81-434A-A198-C071FA8B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2E647-6A36-4F17-A650-DE00DF53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D0CD0-CDBA-4248-8F6B-A7394C74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F4AA8-7F1D-4C61-BED9-2885C30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6D799-B557-4C34-AA82-818C3F57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27923-C908-46DC-9329-3C1AE46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E73A5-22D3-4BCE-AC43-1E1E85FC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D7FF3-B83F-4DF3-8898-6A1DE8F2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9211-CF79-4F32-BF73-337B1686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C3E49-2258-4455-B704-02527E8A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FA99-F9FA-45F8-8D93-9FEDFA83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7C9C3-A4B5-491F-A340-E2387B31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E7BD-401C-4466-B0B2-9FCAEB2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7305-FC49-4D1C-9ED0-D4C977CE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AE7-9909-4F5C-95ED-BEB23656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795E-EE93-40F7-8FC1-D74875C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95F0-E2A0-47E9-8C9B-99A5C13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10B9-F079-4E73-9531-ADC94E17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93C1-2549-45F0-828A-DE2F47C8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66D-7AC7-4C36-B487-74CCC83A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7134-3ACC-45E7-92EE-6232F93D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3264-EBC1-4C2F-AF52-E5C6D64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6D08-DD80-4756-B567-246DAAAF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A998-F3E4-474B-B78A-E699DB53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90F-4270-4178-B617-DB2F5F58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7D7C7-B2A7-4B7B-9CAA-D497F3E2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3EC0A-561D-47BE-ADB4-7964F19F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E39E4-3BB7-4350-BE6D-91F323A5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4D3C1-A0DA-4EC7-9024-AC0AA509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451CC-46F8-408A-B5F1-F7F6B6F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DC4-9263-4409-B2B6-0D09544D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DE262-CDFD-419E-9407-6473CF5E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F1056-375E-4886-A4AD-26A6FFF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16D02-7D13-4034-8D98-56AC4637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3065B-3036-439D-B502-CF776CC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F105A-7C63-43E1-A77B-204F1B5B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4ABFD-DCFE-4EAB-AD65-3886B430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80CE8-E298-42F8-B64B-BEB1B6E9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77D63-61C0-4572-9C94-8E0F7A9D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6428B-FFFE-4180-BB13-4371F37F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2EA3F-A740-407D-8D80-392AB7B3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E26-A043-4A9E-99AB-A0B22DED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94197-AD3F-4A48-B3FE-4778A4D0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E9990-4652-4377-84BF-FD43EFA7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60494-3CF0-46A0-9836-A992FD3D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8066A-DC3A-4DF8-9D40-04CB2F8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7E742-E193-41E4-B471-9D0C5C71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CC511-B5CD-480E-BAC3-5E03D7F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AB652-4809-468C-90CB-D522B4D9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1B770-2E3F-4C8D-8939-95BBA9B5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62268-446E-4AD9-B217-6B1EA73C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602EF-798D-4831-8902-72289589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856-2BD8-44C2-9462-E5963715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C8BC8-AF85-45FC-93FC-C5242F10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D3B76-1290-48E2-A8A8-739F371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6452E-C48F-4F58-9D44-6C8804EA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CA1C2-E2BE-4BBE-842E-11F0A22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560D3-313B-438A-879E-C676581A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F070B-3032-42B8-8BEA-4FA680F0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4E593-B224-424D-B051-2FCCA1D4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C8530-57BB-4905-BE08-6D80AA96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79700-2036-486C-81D6-BF966229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3A698-DFEF-4E0B-97F6-5D6D06D7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D44-5B13-48D5-A3AD-5754101A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B595D-29A8-4EF5-A10B-BF6F5DB3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DAC8D-CD92-49A7-A210-811E74E5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85F7-FDBF-4AA5-B482-6FE319F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13A1-DD9A-4347-8D73-0D4358E6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F4D90-FAF6-418D-A1D3-882CBEE8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5A7F-9E33-4805-A0B8-952F085C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199CC-B275-4BD9-AFF8-0FBA43B0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2F128-92D8-488D-AED3-456F43B3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42EE7-5878-451E-8DD1-960E4829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753DA-469E-44CE-A175-6636CEB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548-D17D-4790-88FF-FC1732F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10B7-5951-49D8-94C6-8BB7A3C5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D90C-7F60-4DBB-9DAA-C57AF985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B26D5-04A2-4018-891A-E20BEE30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2C825-7482-4A4C-BB51-4AADE739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6CA93-E5E6-44FB-BB6C-87AAB33B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452FD-6E0A-44E4-9EB2-D4E220EA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25398A-7041-4E49-A9C6-FDC727BB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05D678-ADF6-44F2-BCEA-B14D4DE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ED918-1D57-43F2-BB9E-36583A86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3714D-2FB0-47B0-B014-6D395718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E1F-9B6B-42E2-94FD-C127C017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9A75C-369C-499D-8DE8-E65A465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F7B22-9C7C-448F-A41C-7824536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49ACE-4AB5-43AB-9B5B-342BFAF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C06E1-7B75-4DB4-897F-36615D73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C2ABA-E23F-43B8-BA16-5F1D3976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A92B-85C6-49CB-8776-1FE7D565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5DE28-15E5-4CF0-A9F6-DBA8ECDC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38F77-3220-4564-B1A9-FC8B3E05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4729C-1749-4DCE-AE38-1FFAC1DE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7307-B60A-4BC8-8E53-FF69C48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3AA-A0C2-4CD4-941A-EFAC4E5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94159-E8F1-46BE-9A96-64854DE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2FFF0-DE87-416B-B640-984CD42F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CAAA9-94DD-4C4F-96C2-D3872AF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6F80E-5D12-498F-8FD9-2C2F072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906C2-F38E-43D8-B863-639359D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61AD-55C8-46C6-9539-24957F01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9A917-A5FB-456F-B3C5-1C268232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6D8F9-C22D-4D65-81C6-3F7AFB9A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81C69-4518-4ED7-8051-F2C70770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5D3AC-65BF-49C7-BF83-CCCF3168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C926-5CCF-44D5-996C-412E957E0C95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CD5-CE31-4B2C-8724-1D496DCB3CC0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f5f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466-F8C3-4205-BA52-0E9AA5E4933C}" type="slidenum">
              <a:rPr b="1" lang="fa-IR" sz="14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B3F7-4F43-4DCD-A4FB-603B239D47C4}" type="slidenum">
              <a:rPr b="1" lang="fa-I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492-7A9E-4D0B-AF9F-C41F7AD5A9DB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0AE7-8AA8-4B72-AD82-CC6D375845F3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C24-6471-4317-A303-E4920458D061}" type="slidenum">
              <a:rPr b="1" lang="fa-IR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6204-2E21-4F15-9856-44F671DB9AA6}" type="slidenum">
              <a:rPr b="1" lang="fa-IR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9727-5011-40C7-B693-373077FF5404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f6fc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9d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A28B-A0C3-497E-BBC5-C9D626B9A316}" type="slidenum">
              <a:rPr b="1" lang="fa-I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audio" Target="../media/camera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type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mera.wav"/><Relationship Id="rId31" Type="http://schemas.openxmlformats.org/officeDocument/2006/relationships/audio" Target="../media/type.wav"/><Relationship Id="rId32" Type="http://schemas.openxmlformats.org/officeDocument/2006/relationships/audio" Target="../media/camera.wav"/><Relationship Id="rId33" Type="http://schemas.openxmlformats.org/officeDocument/2006/relationships/audio" Target="../media/type.wav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428760" y="614376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0DB5-11EF-4CC5-9D70-2B65CEF324AA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357200" y="1356840"/>
            <a:ext cx="6429600" cy="225756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برنامه ریزی استراتژیک </a:t>
            </a:r>
            <a:br>
              <a:rPr sz="4400"/>
            </a:br>
            <a:r>
              <a:rPr b="1" lang="fa-IR" sz="4400" spc="-1" strike="noStrike">
                <a:solidFill>
                  <a:srgbClr val="dbf5f9"/>
                </a:solidFill>
                <a:latin typeface="Times New Roman"/>
                <a:cs typeface="Times New Roman"/>
              </a:rPr>
              <a:t>مراحل و متدها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ارتباط برنامه جامع و عملیاتی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F52D-3B0A-48C1-BC0A-120D620F22D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تابع ارزشها، ايدئولوژي، سياستها و استراتژي هاي حاكم بر سازمان است و بر عهده سياست مداران و مديران ارشد سازمان است و برنامه ريزي عملياتي در سطح مديريت اجرايي سازمان مطرح مي 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در پي حل مسايل اساسي، رشد و توسعه سازمان است. و برنامه ريزي عملياتي با هدف يا هدفهاي مشخص، محدود، عيني و دست يافتني، تنها متوجه بهترين كارآيي در خدمت يا توليد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 algn="r" rtl="1">
              <a:lnSpc>
                <a:spcPct val="15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نامه ريزي </a:t>
            </a:r>
            <a:r>
              <a:rPr b="1" lang="fa-IR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ام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توجه منافعي است كه احتمالا در آينده نصيب سازمان خواهد شد. و برنامه ريزي عملياتي متوجه منافع فعلي و در معرض ديد و يقين است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15D6-E867-49A0-948E-2B436F2F08C8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971640" y="404640"/>
          <a:ext cx="7383240" cy="6259680"/>
        </p:xfrm>
        <a:graphic>
          <a:graphicData uri="http://schemas.openxmlformats.org/drawingml/2006/table">
            <a:tbl>
              <a:tblPr/>
              <a:tblGrid>
                <a:gridCol w="3095640"/>
                <a:gridCol w="3097080"/>
                <a:gridCol w="1190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دراز مد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برنامه ريزي استراتژي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خصوصی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سته است و براساس برنامه هاي كوتاه مدت و طرح هاي داخل آن سيستم تدوين و توسعه مي ياب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يستم باز است و همانطور كه  جامعه تغيير مي كند سازمان نيز بايد تغيير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فرض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طرح نهايي برنامه و تحليل داخلي آن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فرايند برنامه ريزي، تعيين ماموريت، وضعيت محيط خارجي، ظرفيت سازي، آموزش كاركنان و جامع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مركز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داره، بخش، برنامه ريز يا افراد متخصص و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حرفه أي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گروه كوچكي از برنامه ريزان و شركت وسيع افراد ذينفع صورت مي گي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نامه ريزي 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درون سازماني، روشهاي برنامه ريزي درون سازماني است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غييرات برون سازماني، ارزشهاي سازماني و اقدامات پيشگامانه اس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اكيد ر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بر اهداف دراز مدت و كوتاه مدت از حال تا پنج سال اينده تمركز دا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سئوال مي كند چه تصميماتي براساس درك موقعيت چند سال آينده متناسب با وضعيت حال اتخاذ مي گرد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آينده نگ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جموعه أي از اطلاعات مرتبط بهم و مفصل سازماني و برنامه واحدهاي مختلف سازماني و نمايندگيهاي مربوط و توانايي انها و توانايي بودجه هاي جار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صميم گيري خلاق و بصيرت آميز، اين كه چگونه سازمان را براساس محيط در حال تغيير آينده هدايت كرد و كدام فرآيند سازماني قادر به اتخاذ بهترين تصميم و پيش بيني آينده است و مي توان براساس توافق همگاني عمل كن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ستوار است 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راسا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7a3"/>
                    </a:solidFill>
                  </a:tcPr>
                </a:tc>
              </a:tr>
            </a:tbl>
          </a:graphicData>
        </a:graphic>
      </p:graphicFrame>
      <p:sp>
        <p:nvSpPr>
          <p:cNvPr id="488" name="Rectangle 36"/>
          <p:cNvSpPr/>
          <p:nvPr/>
        </p:nvSpPr>
        <p:spPr>
          <a:xfrm>
            <a:off x="0" y="697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ويژگي‏هاي برنامه‏ريز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BEF3-0FC5-4B80-858E-C4664B45F28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85840" y="171468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 تاثير عوامل خارجي توجه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ينده‏نگ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وعي برنامة بلندمدّت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يريت عالي مسئول آن 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مينة اساسي براي تمامي برنامه‏هاي ديگر در سطوح سازماني را ترسيم مي‏ك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جب هدايت تمامي سازمان مي‏ش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ه‏علت تجسم بهتر و دقيق آينده، امكان رسيدن به‏اهداف بيشتر اس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r" rtl="1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Marlett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ون برنامه‏ريزي عملياتي قابل اجرا نمي‏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51640" indent="-25164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a2c00"/>
                </a:solidFill>
                <a:latin typeface="Times New Roman"/>
                <a:cs typeface="Times New Roman"/>
              </a:rPr>
              <a:t>در واقع برنامه‏ريزي استراتژيك به دو سوال پاسخ مي‏ده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231960" y="5638680"/>
            <a:ext cx="226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496e00"/>
              </a:buClr>
              <a:buSzPct val="110000"/>
              <a:buFont typeface="Wingdings 2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ه بايد بكن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/>
          <p:cNvSpPr/>
          <p:nvPr/>
        </p:nvSpPr>
        <p:spPr>
          <a:xfrm>
            <a:off x="4724280" y="5791320"/>
            <a:ext cx="1600200" cy="152280"/>
          </a:xfrm>
          <a:prstGeom prst="leftArrow">
            <a:avLst>
              <a:gd name="adj1" fmla="val 50000"/>
              <a:gd name="adj2" fmla="val 262707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728160" y="56386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هد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268240" y="617220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buClr>
                <a:srgbClr val="496e00"/>
              </a:buClr>
              <a:buSzPct val="110000"/>
              <a:buFont typeface="Wingdings 2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5000"/>
                </a:solidFill>
                <a:latin typeface="Times New Roman"/>
                <a:ea typeface="Traffic"/>
              </a:rPr>
              <a:t> چگونه بايد انجام دهيم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/>
          <p:cNvSpPr/>
          <p:nvPr/>
        </p:nvSpPr>
        <p:spPr>
          <a:xfrm>
            <a:off x="4724280" y="6324480"/>
            <a:ext cx="762120" cy="152640"/>
          </a:xfrm>
          <a:prstGeom prst="leftArrow">
            <a:avLst>
              <a:gd name="adj1" fmla="val 50000"/>
              <a:gd name="adj2" fmla="val 124823"/>
            </a:avLst>
          </a:prstGeom>
          <a:solidFill>
            <a:srgbClr val="8fd6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3429720" y="6172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3300"/>
                </a:solidFill>
                <a:uFillTx/>
                <a:latin typeface="Times New Roman"/>
                <a:cs typeface="Jadid"/>
              </a:rPr>
              <a:t>استراتژ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مراحل فرآيند </a:t>
            </a:r>
            <a:r>
              <a:rPr b="1" lang="fa-IR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برنامه ریزی </a:t>
            </a:r>
            <a:r>
              <a:rPr b="1" lang="ar-SA" sz="36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83E1-242B-4711-86EC-F59C8F6F8DD5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85520" y="2214360"/>
            <a:ext cx="7777080" cy="2514600"/>
          </a:xfrm>
          <a:prstGeom prst="rect">
            <a:avLst/>
          </a:prstGeom>
          <a:gradFill rotWithShape="0">
            <a:gsLst>
              <a:gs pos="0">
                <a:srgbClr val="fdfdc1"/>
              </a:gs>
              <a:gs pos="100000">
                <a:srgbClr val="fbfb99"/>
              </a:gs>
            </a:gsLst>
            <a:lin ang="2700000"/>
          </a:gradFill>
          <a:ln w="38160">
            <a:solidFill>
              <a:srgbClr val="333300"/>
            </a:solidFill>
            <a:miter/>
          </a:ln>
        </p:spPr>
        <p:txBody>
          <a:bodyPr anchor="ctr">
            <a:normAutofit/>
          </a:bodyPr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حليل، شناخت و هدف‏گذار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تدوين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جراي استراتژي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Strategy Implementation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812880" indent="-812880" algn="just" rtl="1">
              <a:lnSpc>
                <a:spcPct val="100000"/>
              </a:lnSpc>
              <a:spcBef>
                <a:spcPts val="700"/>
              </a:spcBef>
              <a:buClr>
                <a:srgbClr val="7200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40000"/>
                </a:solidFill>
                <a:latin typeface="Times New Roman"/>
                <a:cs typeface="Times New Roman"/>
              </a:rPr>
              <a:t>ارزشيابي و كنترل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w Cen MT"/>
                <a:cs typeface="2  Mehr"/>
              </a:rPr>
              <a:t>فرآيند مديريّت استراتژيك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8DF3-D206-42A5-80EF-658DDF2F0AB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">
            <a:hlinkClick r:id="rId1" action="ppaction://hlinksldjump"/>
          </p:cNvPr>
          <p:cNvSpPr/>
          <p:nvPr/>
        </p:nvSpPr>
        <p:spPr>
          <a:xfrm>
            <a:off x="228600" y="1600200"/>
            <a:ext cx="609480" cy="6094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اف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ولي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53352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152280" y="2362320"/>
            <a:ext cx="76212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س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ذي‏نفع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9051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8"/>
          <p:cNvSpPr/>
          <p:nvPr/>
        </p:nvSpPr>
        <p:spPr>
          <a:xfrm>
            <a:off x="2057400" y="2362320"/>
            <a:ext cx="15238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فلسفه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نقش و مأموريّ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هّدات و ارزش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>
            <a:off x="35812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3733920" y="2362320"/>
            <a:ext cx="167616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كل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رقابت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حيط داخل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1"/>
          <p:cNvSpPr/>
          <p:nvPr/>
        </p:nvSpPr>
        <p:spPr>
          <a:xfrm>
            <a:off x="5410080" y="2743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5562720" y="2362320"/>
            <a:ext cx="228600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فرصت‏ها و تهديد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نقاط قوّت و ضع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شناخت مسائل استراتژي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3"/>
          <p:cNvSpPr/>
          <p:nvPr/>
        </p:nvSpPr>
        <p:spPr>
          <a:xfrm>
            <a:off x="7848720" y="27432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8001000" y="2362320"/>
            <a:ext cx="106668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raffic"/>
              </a:rPr>
              <a:t>تجزيه و تحلي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raffic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AutoShape 15"/>
          <p:cNvCxnSpPr>
            <a:stCxn id="514" idx="2"/>
            <a:endCxn id="516" idx="0"/>
          </p:cNvCxnSpPr>
          <p:nvPr/>
        </p:nvCxnSpPr>
        <p:spPr>
          <a:xfrm rot="5400000">
            <a:off x="4409640" y="-552600"/>
            <a:ext cx="438840" cy="781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Rectangle 16"/>
          <p:cNvSpPr/>
          <p:nvPr/>
        </p:nvSpPr>
        <p:spPr>
          <a:xfrm>
            <a:off x="152280" y="358128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مج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أموريت 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هدا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12952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8"/>
          <p:cNvSpPr/>
          <p:nvPr/>
        </p:nvSpPr>
        <p:spPr>
          <a:xfrm>
            <a:off x="14479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نظيم گزينه‏ها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مختلف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28954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0"/>
          <p:cNvSpPr/>
          <p:nvPr/>
        </p:nvSpPr>
        <p:spPr>
          <a:xfrm>
            <a:off x="3048120" y="3581280"/>
            <a:ext cx="144756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يابي و انتخ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يك استراتژ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1"/>
          <p:cNvSpPr/>
          <p:nvPr/>
        </p:nvSpPr>
        <p:spPr>
          <a:xfrm>
            <a:off x="4495680" y="3962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4648320" y="3581280"/>
            <a:ext cx="12952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وصيف سازما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در آيند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3"/>
          <p:cNvSpPr/>
          <p:nvPr/>
        </p:nvSpPr>
        <p:spPr>
          <a:xfrm>
            <a:off x="594360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4"/>
          <p:cNvSpPr/>
          <p:nvPr/>
        </p:nvSpPr>
        <p:spPr>
          <a:xfrm>
            <a:off x="6095880" y="3352680"/>
            <a:ext cx="1295640" cy="1295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اولو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خصيص منا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صلاح ساختا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 خط مش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و سبك رهب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AutoShape 25"/>
          <p:cNvCxnSpPr>
            <a:stCxn id="526" idx="2"/>
          </p:cNvCxnSpPr>
          <p:nvPr/>
        </p:nvCxnSpPr>
        <p:spPr>
          <a:xfrm rot="5400000">
            <a:off x="4137840" y="976320"/>
            <a:ext cx="448560" cy="720144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27" name="Line 26"/>
          <p:cNvSpPr/>
          <p:nvPr/>
        </p:nvSpPr>
        <p:spPr>
          <a:xfrm>
            <a:off x="76212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7"/>
          <p:cNvSpPr/>
          <p:nvPr/>
        </p:nvSpPr>
        <p:spPr>
          <a:xfrm>
            <a:off x="1066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چشم‏اندا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7543800" y="3581280"/>
            <a:ext cx="83808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تعي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فعّاليّت‏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9"/>
          <p:cNvSpPr/>
          <p:nvPr/>
        </p:nvSpPr>
        <p:spPr>
          <a:xfrm>
            <a:off x="22860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جــر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0"/>
          <p:cNvSpPr/>
          <p:nvPr/>
        </p:nvSpPr>
        <p:spPr>
          <a:xfrm>
            <a:off x="121932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1"/>
          <p:cNvSpPr/>
          <p:nvPr/>
        </p:nvSpPr>
        <p:spPr>
          <a:xfrm>
            <a:off x="1371600" y="5029200"/>
            <a:ext cx="114300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raffic"/>
              </a:rPr>
              <a:t> حصول نتاي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2"/>
          <p:cNvSpPr/>
          <p:nvPr/>
        </p:nvSpPr>
        <p:spPr>
          <a:xfrm>
            <a:off x="2514600" y="5410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3"/>
          <p:cNvSpPr/>
          <p:nvPr/>
        </p:nvSpPr>
        <p:spPr>
          <a:xfrm>
            <a:off x="2666880" y="5029200"/>
            <a:ext cx="990720" cy="76212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8ab9e3"/>
              </a:gs>
            </a:gsLst>
            <a:lin ang="5400000"/>
          </a:gradFill>
          <a:ln w="1908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raffic"/>
              </a:rPr>
              <a:t>ارزشياب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2971800" y="3352680"/>
            <a:ext cx="0" cy="167652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5"/>
          <p:cNvSpPr/>
          <p:nvPr/>
        </p:nvSpPr>
        <p:spPr>
          <a:xfrm>
            <a:off x="8534520" y="3276720"/>
            <a:ext cx="0" cy="160020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36"/>
          <p:cNvSpPr/>
          <p:nvPr/>
        </p:nvSpPr>
        <p:spPr>
          <a:xfrm>
            <a:off x="2590920" y="4800600"/>
            <a:ext cx="0" cy="129528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8"/>
          <p:cNvSpPr/>
          <p:nvPr/>
        </p:nvSpPr>
        <p:spPr>
          <a:xfrm>
            <a:off x="152280" y="4876920"/>
            <a:ext cx="28195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9"/>
          <p:cNvSpPr/>
          <p:nvPr/>
        </p:nvSpPr>
        <p:spPr>
          <a:xfrm flipH="1">
            <a:off x="228600" y="22860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461400" y="1913760"/>
            <a:ext cx="275940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حليل، شناخت و هدف‏گذ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1"/>
          <p:cNvSpPr/>
          <p:nvPr/>
        </p:nvSpPr>
        <p:spPr>
          <a:xfrm>
            <a:off x="2786400" y="5871240"/>
            <a:ext cx="71856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كنتر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42"/>
          <p:cNvSpPr/>
          <p:nvPr/>
        </p:nvSpPr>
        <p:spPr>
          <a:xfrm>
            <a:off x="7391520" y="3962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AutoShape 43"/>
          <p:cNvCxnSpPr/>
          <p:nvPr/>
        </p:nvCxnSpPr>
        <p:spPr>
          <a:xfrm>
            <a:off x="3048120" y="4876560"/>
            <a:ext cx="54871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3" name="Text Box 44"/>
          <p:cNvSpPr/>
          <p:nvPr/>
        </p:nvSpPr>
        <p:spPr>
          <a:xfrm>
            <a:off x="4467600" y="4652280"/>
            <a:ext cx="16696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تدوين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AutoShape 45"/>
          <p:cNvCxnSpPr/>
          <p:nvPr/>
        </p:nvCxnSpPr>
        <p:spPr>
          <a:xfrm>
            <a:off x="152280" y="6019560"/>
            <a:ext cx="2439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5" name="Text Box 46"/>
          <p:cNvSpPr/>
          <p:nvPr/>
        </p:nvSpPr>
        <p:spPr>
          <a:xfrm>
            <a:off x="540000" y="5871240"/>
            <a:ext cx="1779480" cy="368280"/>
          </a:xfrm>
          <a:prstGeom prst="rect">
            <a:avLst/>
          </a:prstGeom>
          <a:solidFill>
            <a:srgbClr val="fadcb4"/>
          </a:solidFill>
          <a:ln w="9360">
            <a:solidFill>
              <a:srgbClr val="5ff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Jadid"/>
              </a:rPr>
              <a:t>اجـراي استراتژ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D904-76F9-4B8D-A905-9F298845C8B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908000" y="206064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77d9e8"/>
          </a:solidFill>
          <a:ln w="9360">
            <a:solidFill>
              <a:srgbClr val="0000ff"/>
            </a:solidFill>
            <a:miter/>
          </a:ln>
          <a:effectLst>
            <a:outerShdw dist="153753" dir="2700000" blurRad="0" rotWithShape="0">
              <a:srgbClr val="dbf5f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حليل، شناخت و هدف‏گذ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 Setting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4617b"/>
                </a:solidFill>
                <a:uFillTx/>
                <a:latin typeface="Tw Cen MT"/>
                <a:cs typeface="2  Esfehan"/>
              </a:rPr>
              <a:t>تحليل، شناخت و هدف‏گذار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E94-C5FF-4F00-A7D8-7FADA077CFD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99680" y="185688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80680" indent="-580680" algn="just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وضع موجو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مسائل استراتژيك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عوامل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فرصت‏ها و تهديدهاي محيط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شناخت نقاط قوّت و ضعف درون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جزيه و تحليل فرصت‏ها و تهديدهاي محيطي و نقاط قوّت و ضعف دروني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SWOT Analysis</a:t>
            </a:r>
            <a:r>
              <a:rPr b="1" i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2  Esfeh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ارزيابي مجدد مأموريت و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80680" indent="-580680" algn="just" rtl="1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2  Esfehan"/>
              </a:rPr>
              <a:t>تنظيم گزينه‏هاي مختلف استراتژ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ذينفع‏ها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akeholders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3E09-C433-44B2-A66F-1A2E0165A64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14240" y="200016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spcBef>
                <a:spcPts val="700"/>
              </a:spcBef>
              <a:buClr>
                <a:srgbClr val="080808"/>
              </a:buClr>
              <a:buSzPct val="120000"/>
              <a:buFont typeface="Wingding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w Cen MT"/>
                <a:ea typeface="Traffic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رد، گروه يا سازمان كه مي‏تواند بر سازمان تاثير گذارد و يا از آن تاثير بپذيرد و علاوه‏ بر اين‏كه در فرايند مديريت استراتژيك مي‏بايستي علائق آن‏ها در نظر گرفته شود، در فرايند برنامه‏ريزي استراتژيك نيز مي‏بايستي مشاركت داشته باش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ه ترتيب زي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شناسائي هم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اهميّت هر‏يك از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شخص كردن ديدگاه‏ها، معيار رضايت و اهداف آن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أثير آن‏ها بر برنامه‏هاي اجرائ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fa-IR" sz="40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شناسائی مشتریان و نیازهای آنها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7102-0125-4DAF-8EDC-5C832C4796B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به سئوالات ذیل پاسخ دهید</a:t>
            </a:r>
            <a:r>
              <a:rPr b="1" lang="fa-IR" sz="2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خدمات را مصرف یا دریافت می کن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چه کسانی از عملکرد سازمان سود می برند ؟ 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خارج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یان داخل سازمان چه کسانی هستن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کرد مناسب سازمان از نظر مشتریان چیست؟( داخلی و خارجی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54400" indent="-5544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یا سازمان دیگری وجود دارد که نیاز مشتریان را رفع کند؟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76a3"/>
                </a:solidFill>
                <a:uFillTx/>
                <a:latin typeface="Times New Roman"/>
                <a:cs typeface="Times New Roman"/>
              </a:rPr>
              <a:t>چشم‏انداز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r>
              <a:rPr b="1" i="1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591F-E781-473B-B3D2-252C6947F6F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28240" y="1785960"/>
            <a:ext cx="86295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100" spc="-1" strike="noStrike" u="sng">
                <a:solidFill>
                  <a:srgbClr val="0076a3"/>
                </a:solidFill>
                <a:uFillTx/>
                <a:latin typeface="Tw Cen MT"/>
                <a:cs typeface="Titr"/>
              </a:rPr>
              <a:t>تعريف:</a:t>
            </a:r>
            <a:r>
              <a:rPr b="0" lang="ar-SA" sz="2100" spc="-1" strike="noStrike">
                <a:solidFill>
                  <a:srgbClr val="0076a3"/>
                </a:solidFill>
                <a:latin typeface="Tw Cen MT"/>
                <a:ea typeface="Titr Mazar"/>
              </a:rPr>
              <a:t> </a:t>
            </a:r>
            <a:r>
              <a:rPr b="1" lang="ar-SA" sz="21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شم‏انداز يعني آن‏چه كه در آرزوي دست‏يافتن به آن مي‏باشيم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شم‏انداز حالت آرماني داشته و كمّي نمي‏باشد و به سوال زير پاسخ مي‏ده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ctr" rt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13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آن‏چه مي‏خواهيم بشويم 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در بيان آن بايستي سه موضوع در نظر گرفته شود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قصو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توجي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b02a00"/>
              </a:buClr>
              <a:buSzPct val="6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فايد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ضمناً موارد زير در نوشتن چشم‏انداز مي‏بايستي رعايت گردد</a:t>
            </a:r>
            <a:r>
              <a:rPr b="1" lang="fa-IR" sz="21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آرزو روشن براي آينده در نظر گرفته شو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چالش‏برانگيز و معني‏دا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محكم ولي انعطاف‏پذير باشد</a:t>
            </a:r>
            <a:r>
              <a:rPr b="1" i="1" lang="fa-IR" sz="21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just" rtl="1">
              <a:lnSpc>
                <a:spcPct val="90000"/>
              </a:lnSpc>
              <a:spcBef>
                <a:spcPts val="700"/>
              </a:spcBef>
              <a:buClr>
                <a:srgbClr val="3d5c00"/>
              </a:buClr>
              <a:buSzPct val="110000"/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1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ساده، كوتاه و به‏يادماندني باشد</a:t>
            </a:r>
            <a:r>
              <a:rPr b="1" i="1" lang="fa-IR" sz="2100" spc="-1" strike="noStrike">
                <a:solidFill>
                  <a:srgbClr val="0076a3"/>
                </a:solidFill>
                <a:latin typeface="Tw Cen MT"/>
                <a:ea typeface="Traffic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) </a:t>
            </a: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ديريّت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2D76-5005-4C4B-B82A-AA3A3B171A8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Oval 3"/>
          <p:cNvGrpSpPr/>
          <p:nvPr/>
        </p:nvGrpSpPr>
        <p:grpSpPr>
          <a:xfrm>
            <a:off x="658800" y="2041560"/>
            <a:ext cx="7497720" cy="3152880"/>
            <a:chOff x="658800" y="2041560"/>
            <a:chExt cx="7497720" cy="3152880"/>
          </a:xfrm>
        </p:grpSpPr>
        <p:pic>
          <p:nvPicPr>
            <p:cNvPr id="444" name="Oval 3" descr=""/>
            <p:cNvPicPr/>
            <p:nvPr/>
          </p:nvPicPr>
          <p:blipFill>
            <a:blip r:embed="rId1"/>
            <a:stretch/>
          </p:blipFill>
          <p:spPr>
            <a:xfrm>
              <a:off x="658800" y="2041560"/>
              <a:ext cx="749772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7120" y="2517840"/>
              <a:ext cx="5226120" cy="21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فرآيند انجام كارها به‏طور اثربخش و كار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2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000062"/>
                  </a:solidFill>
                  <a:latin typeface="Times New Roman"/>
                  <a:cs typeface="Times New Roman"/>
                </a:rPr>
                <a:t>به‏وسيله ديگر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e2d700"/>
                </a:solidFill>
                <a:latin typeface="Times New Roman"/>
                <a:ea typeface="Times New Roman"/>
              </a:rPr>
              <a:t>        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دورنما </a:t>
            </a:r>
            <a:r>
              <a:rPr b="0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fa-IR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VI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71320" y="2636640"/>
            <a:ext cx="3429000" cy="25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c931c"/>
                </a:solidFill>
                <a:latin typeface="Tw Cen MT"/>
                <a:ea typeface="Arial"/>
              </a:rPr>
              <a:t>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دامه رسالت و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چشم انداز به آینده ای اس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که سازمان آرزو دار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500720" y="1700280"/>
          <a:ext cx="4038480" cy="3889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دورنم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200" spc="-1" strike="noStrike">
                          <a:solidFill>
                            <a:srgbClr val="0076a3"/>
                          </a:solidFill>
                          <a:latin typeface="Arial"/>
                        </a:rPr>
                        <a:t>رسال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ابل تغیی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اب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ینده آرمان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فلسفه وجود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عده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عهد به انج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6C7C-1425-4FC4-B70E-31E2052F78D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ویژگی</a:t>
            </a:r>
            <a:r>
              <a:rPr b="1" lang="en-US" sz="4400" spc="-1" strike="noStrike">
                <a:solidFill>
                  <a:srgbClr val="0076a3"/>
                </a:solidFill>
                <a:latin typeface="Tw Cen MT"/>
              </a:rPr>
              <a:t> 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چشم انداز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39D-00E6-485F-B4AF-BD9E7546199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6840" y="1928880"/>
            <a:ext cx="82580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خلاص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درک، ساده و روش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الهام بخش و چالشی، آرمانی و ترغیب کننده برای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باور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راستای رسال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نقطه تفاهم مشتری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قابل انعطا 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توصیف کننده خدمات آیند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نحوه تهیه چشم انداز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1B96-5DE9-4841-8A2D-814D274869A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571680" y="1915920"/>
            <a:ext cx="81151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a50021"/>
                </a:solidFill>
                <a:latin typeface="Tw Cen MT"/>
                <a:ea typeface="Arial"/>
              </a:rPr>
              <a:t>    </a:t>
            </a: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گرش عمیق اعضا بیان شود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1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در آینده بدنبال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2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سازمان چه تصمیماتی در آینده دار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3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آینده مطلوب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4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چه تصویری نسبت به مشتریان داری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5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کیفیت زندگی مشتریان چگونه ارتقا می یاب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6</a:t>
            </a:r>
            <a:r>
              <a:rPr b="1" lang="fa-IR" sz="2800" spc="-1" strike="noStrike">
                <a:solidFill>
                  <a:srgbClr val="0076a3"/>
                </a:solidFill>
                <a:latin typeface="Tw Cen MT"/>
                <a:ea typeface="Arial"/>
              </a:rPr>
              <a:t>- بزرگترین فرصت ها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Mission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1" lang="en-US" sz="4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C0CA-F5C5-42F3-80D3-20BFFB841AC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13880" y="1785960"/>
            <a:ext cx="800604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تعريف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رسالت يا مأموريّت معرّف علّت وجودي سازمان مي‏باشد و به دو سوال زير پاسخ مي‏ده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چه مي‏كنيم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SzPct val="9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چه خواهيم كرد؟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ة مأموريّت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Mission Statement</a:t>
            </a:r>
            <a:r>
              <a:rPr b="1" i="1" lang="en-US" sz="20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9061c"/>
                </a:solidFill>
                <a:latin typeface="Times New Roman"/>
                <a:cs typeface="Times New Roman"/>
              </a:rPr>
              <a:t>در واقع بيانية مأموريّت مشروعيّت ايجاد و ادامة حيات سازمان را تبيين مي‏كند</a:t>
            </a:r>
            <a:r>
              <a:rPr b="1" lang="fa-IR" sz="2000" spc="-1" strike="noStrike">
                <a:solidFill>
                  <a:srgbClr val="0906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مثلأ</a:t>
            </a:r>
            <a:r>
              <a:rPr b="1" lang="ar-SA" sz="2000" spc="-1" strike="noStrike">
                <a:solidFill>
                  <a:srgbClr val="422db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443d08"/>
                </a:solidFill>
                <a:latin typeface="Times New Roman"/>
                <a:cs typeface="Times New Roman"/>
              </a:rPr>
              <a:t>مأموريّت سازمان‏هاي بهداشتي و درماني، حفظ و ارتقا وضع سلامت جامعه مي‏باشد</a:t>
            </a:r>
            <a:r>
              <a:rPr b="1" lang="fa-IR" sz="2000" spc="-1" strike="noStrike">
                <a:solidFill>
                  <a:srgbClr val="443d08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بيانيه مأموريّت شامل اجزا زير مي‏باش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زمينة فعّاليّ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ت اهداف اصل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 algn="r" rtl="1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يان ارزش‏ها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Values</a:t>
            </a:r>
            <a:r>
              <a:rPr b="1" i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، باورها و نگرش (فلسفة سازماني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سالت يا مأموريّت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7678-005B-44E8-BC1A-0570FF66CAB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762120" y="2209320"/>
            <a:ext cx="795816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فلسفة سازماني 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Organization Philosophy</a:t>
            </a:r>
            <a:r>
              <a:rPr b="1" i="1" lang="en-US" sz="29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ea typeface="Traff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نعكس كنن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ه</a:t>
            </a:r>
            <a:r>
              <a:rPr b="1" lang="ar-SA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باورها و ارزش‏ها و نگرش‏هاي اصلي سازمان است كه راهنمايي براي تصميم‏گيري مديران سازماني مي‏باشد</a:t>
            </a:r>
            <a:r>
              <a:rPr b="1" lang="fa-IR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429240" y="4572000"/>
            <a:ext cx="23670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دمات يا محصو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حدودة جغرافياي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4714920"/>
            <a:ext cx="4495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طه‏نظرات درارتباط با رشد و توسعة كش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سازما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اط قوي در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6609240" y="392904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443d08"/>
                </a:solidFill>
                <a:uFillTx/>
                <a:latin typeface="Times New Roman"/>
                <a:cs typeface="Titr"/>
              </a:rPr>
              <a:t>عناصر بيانية مأموري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2748600" y="628164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cc3300"/>
                </a:solidFill>
                <a:latin typeface="Times New Roman"/>
                <a:cs typeface="Titr"/>
              </a:rPr>
              <a:t>بيانية مأموريّت بايد الهام‏بخش و برانگيزند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714680" y="404280"/>
            <a:ext cx="62863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رسالت   </a:t>
            </a:r>
            <a:r>
              <a:rPr b="1" lang="en-US" sz="44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MISSION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4B71-4B7B-4D4E-9537-67EE260CA20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42960" y="1857240"/>
            <a:ext cx="81439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cs typeface="Times New Roman"/>
              </a:rPr>
              <a:t>بیانیه جامع و مختصر از اهداف سازم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(سند عینی تلاش سازمان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        ضرورت تهیه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دوین مقاصد مهم، روشن و مرتبط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تبیین چارچوب اصلی برنامه ریزی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متعهد ساختن کارکنان به تحقق اهداف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- جلب حمایت افراد خارج سازمان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Tw Cen MT"/>
                <a:ea typeface="Arial"/>
              </a:rPr>
              <a:t>  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c000"/>
                </a:solidFill>
                <a:latin typeface="Tw Cen MT"/>
                <a:cs typeface="Arial"/>
              </a:rPr>
              <a:t>ارزش ها</a:t>
            </a:r>
            <a:r>
              <a:rPr b="1" lang="en-US" sz="4400" spc="-1" strike="noStrike">
                <a:solidFill>
                  <a:srgbClr val="ffc000"/>
                </a:solidFill>
                <a:latin typeface="Tw Cen MT"/>
              </a:rPr>
              <a:t>VALUES</a:t>
            </a:r>
            <a:r>
              <a:rPr b="0" lang="en-US" sz="4400" spc="-1" strike="noStrike">
                <a:solidFill>
                  <a:srgbClr val="ffc000"/>
                </a:solidFill>
                <a:latin typeface="Tw Cen MT"/>
              </a:rPr>
              <a:t>       </a:t>
            </a:r>
            <a:endParaRPr b="0" lang="en-US" sz="44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56800" y="2142720"/>
            <a:ext cx="777708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اصولی که از نظر فردی و اجتماعی در سازمان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 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cs typeface="Arial"/>
              </a:rPr>
              <a:t>نوعی رفتار مناسب و برتر شمرده می شوندو در هر حال معیارهای ثابت سازمان برای تصمیم گیری ها هستند</a:t>
            </a:r>
            <a:r>
              <a:rPr b="1" lang="fa-IR" sz="2800" spc="-1" strike="noStrike">
                <a:solidFill>
                  <a:srgbClr val="ffc000"/>
                </a:solidFill>
                <a:latin typeface="Tw Cen MT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c000"/>
                </a:solidFill>
                <a:latin typeface="Tw Cen MT"/>
                <a:cs typeface="Arial"/>
              </a:rPr>
              <a:t>صداقت، رازداری ،رضایت گیرنده خدمت در همه جا</a:t>
            </a:r>
            <a:r>
              <a:rPr b="1" lang="fa-IR" sz="3200" spc="-1" strike="noStrike">
                <a:solidFill>
                  <a:srgbClr val="e2d700"/>
                </a:solidFill>
                <a:latin typeface="Tw Cen MT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3F66-175E-4CBC-84EB-9BFB777DEFED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کاربرد ارزش های سازمانی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6ED0-AD13-43AA-9DE7-B2986380599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12360" y="2214360"/>
            <a:ext cx="8102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مبنا و معیار برای تصمیم گیر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بیان کننده ارزش های مورد قبول جامعه و سازم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ایجاد انگیزه در کارکنا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وسیله تغییر فرهنگ سازمانی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w Cen MT"/>
                <a:cs typeface="Arial"/>
              </a:rPr>
              <a:t>تبیین ساختار ومحرک عملیاتهای تبدیل دورنما به واقعی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نقش و اهداف بيانية مأموريّت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944-CFFA-4695-9733-6E7DA96118C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Rectangle 3"/>
          <p:cNvGrpSpPr/>
          <p:nvPr/>
        </p:nvGrpSpPr>
        <p:grpSpPr>
          <a:xfrm>
            <a:off x="1006560" y="2451240"/>
            <a:ext cx="7242120" cy="2912760"/>
            <a:chOff x="1006560" y="2451240"/>
            <a:chExt cx="7242120" cy="2912760"/>
          </a:xfrm>
        </p:grpSpPr>
        <p:pic>
          <p:nvPicPr>
            <p:cNvPr id="594" name="Rectangle 3" descr=""/>
            <p:cNvPicPr/>
            <p:nvPr/>
          </p:nvPicPr>
          <p:blipFill>
            <a:blip r:embed="rId1"/>
            <a:stretch/>
          </p:blipFill>
          <p:spPr>
            <a:xfrm>
              <a:off x="1006560" y="2451240"/>
              <a:ext cx="724212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038240" y="2482920"/>
              <a:ext cx="7175520" cy="28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گرايش يكسان در تمام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ايجاد تفاهم در ارتباط با ايده‏ها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منبع الهامي در ارتباط با فعّاليّت‏هاي روزمر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812880" indent="-812880" algn="r" rtl="1">
                <a:lnSpc>
                  <a:spcPct val="100000"/>
                </a:lnSpc>
                <a:spcBef>
                  <a:spcPts val="700"/>
                </a:spcBef>
                <a:buClr>
                  <a:srgbClr val="333300"/>
                </a:buClr>
                <a:buSzPct val="90000"/>
                <a:buFont typeface="Times New Roman"/>
                <a:buAutoNum type="roman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4e6d"/>
                  </a:solidFill>
                  <a:latin typeface="Times New Roman"/>
                  <a:cs typeface="Times New Roman"/>
                </a:rPr>
                <a:t>عامل هدايتي و گرايشي كاركنان در راستاي اهدا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09120" y="2357280"/>
            <a:ext cx="2319480" cy="3052800"/>
          </a:xfrm>
          <a:prstGeom prst="rect">
            <a:avLst/>
          </a:prstGeom>
          <a:solidFill>
            <a:srgbClr val="04617b"/>
          </a:solidFill>
          <a:ln w="38160">
            <a:solidFill>
              <a:srgbClr val="004e6d"/>
            </a:solidFill>
            <a:miter/>
          </a:ln>
        </p:spPr>
        <p:txBody>
          <a:bodyPr anchor="ctr">
            <a:normAutofit fontScale="94000"/>
          </a:bodyPr>
          <a:p>
            <a:pPr marL="501480" indent="-501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ffff"/>
                </a:solidFill>
                <a:uFillTx/>
                <a:latin typeface="Times New Roman"/>
                <a:cs typeface="Times New Roman"/>
              </a:rPr>
              <a:t>محيط داخلي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نابع مال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يروي انسان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زاريابي و فروش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ليات و توليد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قيق و توسعه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01480" indent="-501480" algn="r" rtl="1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راتژي جاري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643720" y="2357280"/>
            <a:ext cx="3195360" cy="3052800"/>
          </a:xfrm>
          <a:prstGeom prst="rect">
            <a:avLst/>
          </a:prstGeom>
          <a:solidFill>
            <a:srgbClr val="dbf5f9"/>
          </a:solidFill>
          <a:ln w="38160">
            <a:solidFill>
              <a:srgbClr val="dbf5f9"/>
            </a:solidFill>
            <a:miter/>
          </a:ln>
        </p:spPr>
        <p:txBody>
          <a:bodyPr anchor="ctr">
            <a:normAutofit fontScale="95000"/>
          </a:bodyPr>
          <a:p>
            <a:pPr marL="506520" indent="-5065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محيط كلان 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EST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i="1" lang="ar-SA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سياس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قتصاد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اجتماعي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06520" indent="-506520" algn="just" rtl="1">
              <a:lnSpc>
                <a:spcPct val="100000"/>
              </a:lnSpc>
              <a:spcBef>
                <a:spcPts val="700"/>
              </a:spcBef>
              <a:buClr>
                <a:srgbClr val="080808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ن‏آور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ca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1719-7435-4E72-B029-B63E45594A4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2928960" y="2357280"/>
            <a:ext cx="2709720" cy="3052800"/>
          </a:xfrm>
          <a:prstGeom prst="rect">
            <a:avLst/>
          </a:prstGeom>
          <a:solidFill>
            <a:srgbClr val="0bd0d9"/>
          </a:solidFill>
          <a:ln w="10080">
            <a:solidFill>
              <a:srgbClr val="21b2c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حيط رقابتي (پورتر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تري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زه‏وا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دارك‏كنندگ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لا يا خدمت جانش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spcBef>
                <a:spcPts val="499"/>
              </a:spcBef>
              <a:buClr>
                <a:srgbClr val="85dfd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قب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695808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Tw Cen MT"/>
                <a:cs typeface="Arial"/>
              </a:rPr>
              <a:t>تعريف مديريت</a:t>
            </a:r>
            <a:endParaRPr b="0" lang="en-US" sz="6000" spc="-1" strike="noStrike">
              <a:solidFill>
                <a:srgbClr val="dbf5f9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971640" y="2286000"/>
            <a:ext cx="6958080" cy="26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ديريت فعاليتي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ست منظم درجهت تحقق اهداف معين ازطريق ايجاد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وابط ميان منابع موجود، انجام دادن كار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امشاركت افراد ديگروشركت فعال در تصميم گيري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EE73-E284-49A2-B68F-73EC1D565842}" type="slidenum">
              <a:rPr b="1" lang="fa-IR" sz="1400" spc="-1" strike="noStrike">
                <a:solidFill>
                  <a:srgbClr val="dbf5f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شناخت محيط‏هاي سازماني</a:t>
            </a: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ادامه)</a:t>
            </a:r>
            <a:endParaRPr b="0" lang="en-US" sz="2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E466-3277-4903-8F9F-DA5BA770197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09120" y="2209680"/>
            <a:ext cx="8339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720000"/>
                </a:solidFill>
                <a:latin typeface="Times New Roman"/>
                <a:cs typeface="Times New Roman"/>
              </a:rPr>
              <a:t>براي شناخت محيط‏هاي سازماني ابتدا عوامل مربوطه شناسائي مي‏شوند</a:t>
            </a:r>
            <a:r>
              <a:rPr b="1" lang="fa-IR" sz="2000" spc="-1" strike="noStrike">
                <a:solidFill>
                  <a:srgbClr val="72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ثلاً عوامل سياسي مي‏تواند شامل موارد زير باشد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حمايت‏كنن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كار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ارتباط با ساير كشورها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قوانين خصوصي‏سازي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سپس جمع تعداد عوامل نيز مشخص مي‏شود. در مثال بالا جمع عوامل سياسي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مي‏باشد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كلان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PES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و رقابتي به‏عنوان، عوامل محيطي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Environment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566640" indent="-566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be2d00"/>
                </a:solidFill>
                <a:latin typeface="Times New Roman"/>
                <a:cs typeface="Times New Roman"/>
              </a:rPr>
              <a:t>مجموع عوامل محيط داخلي به‏عنوان منابع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Resources</a:t>
            </a:r>
            <a:r>
              <a:rPr b="1" i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 در نظر گرفته مي‏شود</a:t>
            </a:r>
            <a:r>
              <a:rPr b="1" lang="fa-IR" sz="2000" spc="-1" strike="noStrike">
                <a:solidFill>
                  <a:srgbClr val="be2d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يابي عوامل محيط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F191-CDEE-4912-BEEE-10A6E52A985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33520" y="2514240"/>
            <a:ext cx="8339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ّم‏ترين قسمت برنامه‏ريزي استراتژيك بوده و به عواملي تأكيد دارد كه ظهور و بروز آن‏ها در اختيار سازمان و مديّريت نمي‏باش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660033"/>
                </a:solidFill>
                <a:uFillTx/>
                <a:latin typeface="Times New Roman"/>
                <a:cs typeface="Times New Roman"/>
              </a:rPr>
              <a:t>روش‏هاي ارزيابي عوامل محيطي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يزبيني يا پويش‏گر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cann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ردياب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Trail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يش‏بيني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Forecast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780120" indent="-780120" algn="r" rtl="1">
              <a:lnSpc>
                <a:spcPct val="100000"/>
              </a:lnSpc>
              <a:spcBef>
                <a:spcPts val="700"/>
              </a:spcBef>
              <a:buClr>
                <a:srgbClr val="be2d00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663300"/>
                </a:solidFill>
                <a:latin typeface="Times New Roman"/>
                <a:cs typeface="Times New Roman"/>
              </a:rPr>
              <a:t>پايش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Monitoring</a:t>
            </a:r>
            <a:r>
              <a:rPr b="1" i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)</a:t>
            </a:r>
            <a:r>
              <a:rPr b="1" lang="en-US" sz="2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96D9-4EDC-4CB7-8501-37733D221B6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21384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387026"/>
                </a:solidFill>
                <a:latin typeface="Tw Cen MT"/>
                <a:cs typeface="Arial"/>
              </a:rPr>
              <a:t>تهیه ماتریس ارزیابی عوامل خارج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87026"/>
                </a:solidFill>
                <a:latin typeface="Tw Cen MT"/>
              </a:rPr>
              <a:t>External Factor Evaluation (EFE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227664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الف – نگارش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فرصت و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5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تهدید بر اساس میزان واولویت تعیین شد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ا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عام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ب- تعیین ضری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برای کل عوامل خارج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ج – محاسبه رتبه برای هر یک از عوامل خارجی بر اساس وضعیت موجو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بی تاثیر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2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کم، 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3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متوسط،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4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- تاثیر زی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د- محاسبه نمره برای هر یک 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 رتبه × ضریب÷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100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هـ محاسبه امتیاز عوامل خارج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(مجموع نمرات نهائی)</a:t>
            </a:r>
            <a:r>
              <a:rPr b="1" lang="fa-IR" sz="2400" spc="-1" strike="noStrike">
                <a:solidFill>
                  <a:srgbClr val="03495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41808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9900"/>
                </a:solidFill>
                <a:latin typeface="Tw Cen MT"/>
                <a:cs typeface="Arial"/>
              </a:rPr>
              <a:t>ماتریس ارزیابی عوامل خارجی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4831-46B0-4515-A42B-1D03B980C06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468360" y="981000"/>
          <a:ext cx="8362800" cy="52117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871640"/>
                <a:gridCol w="317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نمر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رتب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ضری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عوامل خارجی </a:t>
                      </a:r>
                      <a:r>
                        <a:rPr b="1" lang="en-US" sz="24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E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رصت 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</a:t>
                      </a:r>
                      <a:r>
                        <a:rPr b="1" lang="fa-I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ید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      </a:t>
                      </a:r>
                      <a:r>
                        <a:rPr b="1" lang="fa-IR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e2d700"/>
                          </a:solidFill>
                          <a:latin typeface="Arial"/>
                        </a:rPr>
                        <a:t>   جمع ک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رزيابي عوامل درو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0ED9-925A-49A6-94EB-E28C989162A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ر ارزيابي محيط داخلي سه متغير درنظر گرفته مي‏شود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منابع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In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ستراتژي جاري، فرهنگ سازماني، نقش و مأموريّت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ocess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SzPct val="6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عملكرد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utput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ز بالا به پائين اطلاعات موجود كمتر مي‏شود و استفاده از نظرات ذي‏نفع‏ها در اين مورد كمك‏كننده خواهد بود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just" rtl="1">
              <a:lnSpc>
                <a:spcPct val="100000"/>
              </a:lnSpc>
              <a:spcBef>
                <a:spcPts val="700"/>
              </a:spcBef>
              <a:buClr>
                <a:srgbClr val="b02a00"/>
              </a:buClr>
              <a:buSzPct val="14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نقاط‏قوّتي كه نشان‏دهندة مهارت خاص باشند و لبة تيز رقابت سازمان را تعيين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نند </a:t>
            </a:r>
            <a:r>
              <a:rPr b="1" i="1" lang="ar-SA" sz="2400" spc="-1" strike="noStrike">
                <a:solidFill>
                  <a:srgbClr val="008000"/>
                </a:solidFill>
                <a:latin typeface="Times New Roman"/>
                <a:cs typeface="Times New Roman"/>
              </a:rPr>
              <a:t>شايستگي بارز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istinction Competence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 مي‏نامند</a:t>
            </a:r>
            <a:r>
              <a:rPr b="1" lang="fa-IR" sz="2400" spc="-1" strike="noStrike">
                <a:solidFill>
                  <a:srgbClr val="b02a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76a3"/>
                </a:solidFill>
                <a:latin typeface="Tw Cen MT"/>
                <a:cs typeface="Arial"/>
              </a:rPr>
              <a:t>ارزیابی عوامل داخلی موثر</a:t>
            </a:r>
            <a:r>
              <a:rPr b="1" lang="fa-IR" sz="4400" spc="-1" strike="noStrike">
                <a:solidFill>
                  <a:srgbClr val="0076a3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979280" y="2349360"/>
            <a:ext cx="2598840" cy="22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a50021"/>
                </a:solidFill>
                <a:latin typeface="Tw Cen MT"/>
                <a:cs typeface="Arial"/>
              </a:rPr>
              <a:t>نقاط ضعف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50021"/>
                </a:solidFill>
                <a:uFillTx/>
                <a:latin typeface="Tw Cen MT"/>
              </a:rPr>
              <a:t>W</a:t>
            </a:r>
            <a:r>
              <a:rPr b="1" lang="en-US" sz="3200" spc="-1" strike="noStrike">
                <a:solidFill>
                  <a:srgbClr val="a50021"/>
                </a:solidFill>
                <a:latin typeface="Tw Cen MT"/>
              </a:rPr>
              <a:t>eak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508360" y="2349360"/>
            <a:ext cx="267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6a3"/>
                </a:solidFill>
                <a:uFillTx/>
                <a:latin typeface="Tw Cen MT"/>
              </a:rPr>
              <a:t>S</a:t>
            </a:r>
            <a:r>
              <a:rPr b="1" lang="en-US" sz="3200" spc="-1" strike="noStrike">
                <a:solidFill>
                  <a:srgbClr val="0076a3"/>
                </a:solidFill>
                <a:latin typeface="Tw Cen MT"/>
              </a:rPr>
              <a:t>trength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9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C6E9-DE77-4AA9-A449-B0EC4519562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c9b74"/>
                </a:solidFill>
                <a:latin typeface="Times New Roman"/>
                <a:cs typeface="Times New Roman"/>
              </a:rPr>
              <a:t>شناسائی نحوه عملکرد سازمان در گذشته</a:t>
            </a:r>
            <a:r>
              <a:rPr b="1" lang="fa-IR" sz="3600" spc="-1" strike="noStrike">
                <a:solidFill>
                  <a:srgbClr val="0c9b74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1047-3190-4919-A05B-C85DC0DA8CA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13880" y="2428560"/>
            <a:ext cx="815364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سازمان پاسخگو نیاز گروه هدف بو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خدمات به نحو مناسب ارائه ش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آیا تغییرات تاثیر گذار در سازمان اتفاق افتاده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حال حاضر در رکود هستیم یا در پیشرفت؟(دلایل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76a3"/>
                </a:solidFill>
                <a:latin typeface="Tw Cen MT"/>
                <a:cs typeface="Arial"/>
              </a:rPr>
              <a:t>در برنامه توسعه کشور دارای چه سهمی هستیم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c9b74"/>
                </a:solidFill>
                <a:latin typeface="Tw Cen MT"/>
                <a:cs typeface="Arial"/>
              </a:rPr>
              <a:t>شناسائی عملکرد فعلی سازمان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r>
              <a:rPr b="1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:</a:t>
            </a:r>
            <a:r>
              <a:rPr b="0" lang="fa-IR" sz="4000" spc="-1" strike="noStrike">
                <a:solidFill>
                  <a:srgbClr val="0c9b74"/>
                </a:solidFill>
                <a:latin typeface="Tw Cen MT"/>
                <a:ea typeface="Arial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8E30-8278-4C61-9FC7-2700D0D82E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12720" y="2428920"/>
            <a:ext cx="815328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در دست اقدام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فعالیتهای مکمل و متضاد کدام ا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آیا نیازی به تداوم فعالیتها میباشد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مبنای سنجش عملکرد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83763"/>
                </a:solidFill>
                <a:latin typeface="Tw Cen MT"/>
                <a:cs typeface="Arial"/>
              </a:rPr>
              <a:t>نگرش جامعه به عملکرد سازمان چیست؟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83763"/>
                </a:solidFill>
                <a:latin typeface="Tw Cen MT"/>
                <a:cs typeface="Arial"/>
              </a:rPr>
              <a:t>شناسائی نقاط ضعف و قوت</a:t>
            </a:r>
            <a:r>
              <a:rPr b="1" lang="fa-IR" sz="4400" spc="-1" strike="noStrike">
                <a:solidFill>
                  <a:srgbClr val="083763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BF73-E824-4AA7-B8EE-45E3A47D76B7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85480" y="2428560"/>
            <a:ext cx="85359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ظرفیت و توان فعلی مجموعه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قوت سازمان چيست و چگونه میتوان آنها را تقویت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نقاط ضعف سازمان چيست و چگونه میتوان آنها را رفع کرد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76a3"/>
                </a:solidFill>
                <a:latin typeface="Tw Cen MT"/>
                <a:cs typeface="Arial"/>
              </a:rPr>
              <a:t>موانع تامین نیاز وانتظارات مشتریان چیست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تدوین استراتژی ها</a:t>
            </a:r>
            <a:r>
              <a:rPr b="1" lang="fa-IR" sz="4000" spc="-1" strike="noStrike">
                <a:solidFill>
                  <a:srgbClr val="03495c"/>
                </a:solidFill>
                <a:latin typeface="Tw Cen MT"/>
                <a:ea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FF6-F44F-4C76-8D23-5DB094176EB3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42600" y="1714320"/>
            <a:ext cx="8072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هیه ماتریس ارزیابی عوامل داخلی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ternal Factor Evaluation (IF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الف – نگارش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قوت و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نقطه ضعف براساس میزان و الوویت تعیین شده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ا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عامل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- تعیین ضریب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برای کل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ج – محاسبه رتبه برای هر یک از عوامل داخلی بر اساس وضعیت فعلی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1-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بی تاثیر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کم،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متوسط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- تاثیر زیاد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د- محاسبه نمره برای هر یک 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 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رتبه × ضریب ÷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100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هـ محاسبه امتیاز عوامل داخل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cs typeface="Arial"/>
              </a:rPr>
              <a:t>مجموع نمرات نهائی</a:t>
            </a:r>
            <a:r>
              <a:rPr b="1" lang="fa-IR" sz="20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r>
              <a:rPr b="1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2600" y="28584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Management Function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ظايف مديريّت</a:t>
            </a:r>
            <a:r>
              <a:rPr b="0" lang="en-US" sz="4400" spc="-1" strike="noStrike">
                <a:solidFill>
                  <a:srgbClr val="04617b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23880" y="1905120"/>
            <a:ext cx="6096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عيين اهداف و روش دستيابي به آن‏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تنظيم كارها، اختيارات و منابع بين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ea typeface="Traffic"/>
              </a:rPr>
              <a:t> </a:t>
            </a: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اعمال نفوذ و ايجاد انگيزه در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10000"/>
                </a:solidFill>
                <a:latin typeface="Tw Cen MT"/>
                <a:cs typeface="Traffic"/>
              </a:rPr>
              <a:t>مقايسه فعّاليّت‏ها با استانداردها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571400" y="1484280"/>
            <a:ext cx="72673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برنامه</a:t>
            </a:r>
            <a:r>
              <a:rPr b="1" i="1" lang="fa-IR" sz="28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‏</a:t>
            </a:r>
            <a:r>
              <a:rPr b="1" i="1" lang="fa-IR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يزي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lann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سازمان‏ده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Organiz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رهبري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ead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1181160" indent="-609480" algn="r" rtl="1">
              <a:lnSpc>
                <a:spcPct val="90000"/>
              </a:lnSpc>
              <a:spcBef>
                <a:spcPts val="550"/>
              </a:spcBef>
              <a:buClr>
                <a:srgbClr val="f7150f"/>
              </a:buClr>
              <a:buSzPct val="70000"/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cs typeface="Times New Roman"/>
              </a:rPr>
              <a:t>كنترل 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trolling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1" i="1" lang="ar-SA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8CD4-1019-4C7B-985D-EE32F9AB5BF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ectangle 5"/>
          <p:cNvGrpSpPr/>
          <p:nvPr/>
        </p:nvGrpSpPr>
        <p:grpSpPr>
          <a:xfrm>
            <a:off x="633240" y="5608800"/>
            <a:ext cx="8255160" cy="1096920"/>
            <a:chOff x="633240" y="5608800"/>
            <a:chExt cx="8255160" cy="1096920"/>
          </a:xfrm>
        </p:grpSpPr>
        <p:pic>
          <p:nvPicPr>
            <p:cNvPr id="454" name="Rectangle 5" descr=""/>
            <p:cNvPicPr/>
            <p:nvPr/>
          </p:nvPicPr>
          <p:blipFill>
            <a:blip r:embed="rId1"/>
            <a:stretch/>
          </p:blipFill>
          <p:spPr>
            <a:xfrm>
              <a:off x="633240" y="5608800"/>
              <a:ext cx="8255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685800" y="5715000"/>
              <a:ext cx="8153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برنامه‏ريزي به‏سان لكوموتيوي است كه واگن‏هاي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8684e"/>
                  </a:solidFill>
                  <a:latin typeface="Times New Roman"/>
                  <a:cs typeface="Times New Roman"/>
                </a:rPr>
                <a:t>سازمان‏دهي، رهبري و كنترل را به حركت در مي‏آور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3495c"/>
                </a:solidFill>
                <a:latin typeface="Tw Cen MT"/>
                <a:cs typeface="Arial"/>
              </a:rPr>
              <a:t>ماتریس ارزیابی عوامل داخلی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0671-CD89-42F4-AA25-1FBBF3DD6F6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1143000" y="1643040"/>
          <a:ext cx="7461360" cy="493704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7720"/>
                <a:gridCol w="4403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نمر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رت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ضری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ارزیابی عوامل داخلی </a:t>
                      </a:r>
                      <a:r>
                        <a:rPr b="1" lang="en-US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I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قو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نقاط ضع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  </a:t>
                      </a:r>
                      <a:r>
                        <a:rPr b="1" lang="fa-IR" sz="18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9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8684e"/>
                          </a:solidFill>
                          <a:latin typeface="Arial"/>
                        </a:rPr>
                        <a:t>   جمع ک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2d700"/>
                      </a:solidFill>
                    </a:lnL>
                    <a:lnR w="5760">
                      <a:solidFill>
                        <a:srgbClr val="e2d700"/>
                      </a:solidFill>
                    </a:lnR>
                    <a:lnT w="5760">
                      <a:solidFill>
                        <a:srgbClr val="e2d700"/>
                      </a:solidFill>
                    </a:lnT>
                    <a:lnB w="5760">
                      <a:solidFill>
                        <a:srgbClr val="e2d7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2303e"/>
                </a:solidFill>
                <a:latin typeface="Tw Cen MT"/>
                <a:cs typeface="Arial"/>
              </a:rPr>
              <a:t>ماتریس توز  </a:t>
            </a:r>
            <a:r>
              <a:rPr b="1" lang="en-US" sz="4000" spc="-1" strike="noStrike">
                <a:solidFill>
                  <a:srgbClr val="02303e"/>
                </a:solidFill>
                <a:latin typeface="Tw Cen MT"/>
              </a:rPr>
              <a:t>TOWS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B996-9E55-47D2-AB60-38C5D34469C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642960" y="1714680"/>
          <a:ext cx="8136000" cy="4714560"/>
        </p:xfrm>
        <a:graphic>
          <a:graphicData uri="http://schemas.openxmlformats.org/drawingml/2006/table">
            <a:tbl>
              <a:tblPr/>
              <a:tblGrid>
                <a:gridCol w="2776680"/>
                <a:gridCol w="2647800"/>
                <a:gridCol w="2711520"/>
              </a:tblGrid>
              <a:tr h="14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ضعف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نقاط قوت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عنو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فرصت 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W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استراتژی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تهدیدها </a:t>
                      </a:r>
                      <a:r>
                        <a:rPr b="1" lang="en-US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1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2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3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4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5</a:t>
                      </a:r>
                      <a:r>
                        <a:rPr b="1" lang="fa-IR" sz="1400" spc="-1" strike="noStrike">
                          <a:solidFill>
                            <a:srgbClr val="02303e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51F1-9609-4D14-8007-FCA2872DECF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71320" y="259920"/>
            <a:ext cx="778644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3495c"/>
                </a:solidFill>
                <a:latin typeface="Tw Cen MT"/>
                <a:cs typeface="Arial"/>
              </a:rPr>
              <a:t>قدم چهارم: تهیه ماتریس توز </a:t>
            </a:r>
            <a:r>
              <a:rPr b="1" lang="en-US" sz="2900" spc="-1" strike="noStrike">
                <a:solidFill>
                  <a:srgbClr val="03495c"/>
                </a:solidFill>
                <a:latin typeface="Tw Cen MT"/>
              </a:rPr>
              <a:t>TOW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w Cen MT"/>
                <a:ea typeface="Arial"/>
              </a:rPr>
              <a:t>    </a:t>
            </a:r>
            <a:r>
              <a:rPr b="1" lang="fa-IR" sz="28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cs typeface="Arial"/>
              </a:rPr>
              <a:t>با کمک ماتـ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و وضعیت سازمان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IE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)، استراتـژی ها را مشخص نمائ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- ماتریس توز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(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TOWS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)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چهار نمونه استراتژی را به ما پیشنهاد میکند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1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  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O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عالی ترین وضعیت است و میتوان با استفاده از نقاط قوت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 و فرصت ها سهم سازمان را در بازار افزایش داد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2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O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باید نقاط ضعف را کاهش داد واز فرصت ها بهره لازم برد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مانند انتخاب تکنولوژی جد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3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S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: از نقاط قوت استفاده کرده واز تهدیدها دوری کنید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4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-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WT</a:t>
            </a:r>
            <a:r>
              <a:rPr b="1" lang="en-US" sz="2000" spc="-1" strike="noStrike">
                <a:solidFill>
                  <a:srgbClr val="072428"/>
                </a:solidFill>
                <a:latin typeface="Tw Cen MT"/>
              </a:rPr>
              <a:t> </a:t>
            </a: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: هدف کاهش نقاط ضعف و تهدیدها در حداکثر زمان ممکن است و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وضعیت بسیار وخیم میباشد پس باید دنبال انحلال ، ادغام، کاهش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72428"/>
                </a:solidFill>
                <a:latin typeface="Tw Cen MT"/>
                <a:ea typeface="Arial"/>
              </a:rPr>
              <a:t>                    عملیات و ... باشیم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cs typeface="Arial"/>
              </a:rPr>
              <a:t>تهیه ماتریس داخلی و خارج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ernal External (IE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4            3 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9/2</a:t>
            </a: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         2            1 </a:t>
            </a: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داخلی</a:t>
            </a:r>
            <a:br>
              <a:rPr sz="16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br>
              <a:rPr sz="3200"/>
            </a:br>
            <a:r>
              <a:rPr b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1/2</a:t>
            </a:r>
            <a:r>
              <a:rPr b="0" i="1" lang="fa-IR" sz="1600" spc="-1" strike="noStrike">
                <a:solidFill>
                  <a:srgbClr val="000000"/>
                </a:solidFill>
                <a:latin typeface="Tw Cen MT"/>
                <a:ea typeface="Arial"/>
              </a:rPr>
              <a:t>                       </a:t>
            </a:r>
            <a:r>
              <a:rPr b="1" lang="fa-IR" sz="4400" spc="-1" strike="noStrike">
                <a:solidFill>
                  <a:srgbClr val="000000"/>
                </a:solidFill>
                <a:latin typeface="Tw Cen MT"/>
                <a:ea typeface="Arial"/>
              </a:rPr>
              <a:t> ×</a:t>
            </a: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br>
              <a:rPr sz="3200"/>
            </a:br>
            <a:br>
              <a:rPr sz="3200"/>
            </a:br>
            <a:r>
              <a:rPr b="1" lang="fa-IR" sz="32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br>
              <a:rPr sz="3200"/>
            </a:br>
            <a:r>
              <a:rPr b="0" lang="fa-IR" sz="1800" spc="-1" strike="noStrike">
                <a:solidFill>
                  <a:srgbClr val="000000"/>
                </a:solidFill>
                <a:latin typeface="Tw Cen MT"/>
                <a:cs typeface="Arial"/>
              </a:rPr>
              <a:t>نمره عوامل خارجی</a:t>
            </a:r>
            <a:endParaRPr b="0" lang="en-US" sz="18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BF4B-8695-4F2D-BF99-039CECC942A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3708360" y="2349360"/>
          <a:ext cx="4535640" cy="3384720"/>
        </p:xfrm>
        <a:graphic>
          <a:graphicData uri="http://schemas.openxmlformats.org/drawingml/2006/table">
            <a:tbl>
              <a:tblPr/>
              <a:tblGrid>
                <a:gridCol w="2260800"/>
                <a:gridCol w="2274840"/>
              </a:tblGrid>
              <a:tr h="161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W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115964"/>
                          </a:solidFill>
                          <a:latin typeface="Arial"/>
                        </a:rPr>
                        <a:t>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D093-D338-4C65-A31E-97617265FC8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1835280" y="1773360"/>
            <a:ext cx="617220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6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85600" y="213840"/>
            <a:ext cx="593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تخاب و تدوين استراتژي</a:t>
            </a:r>
            <a:r>
              <a:rPr b="1" lang="ar-SA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Strategy Formulation</a:t>
            </a:r>
            <a:r>
              <a:rPr b="1" i="1" lang="en-US" sz="3200" spc="-1" strike="noStrike">
                <a:solidFill>
                  <a:srgbClr val="04617b"/>
                </a:solidFill>
                <a:latin typeface="Tw Cen MT"/>
                <a:ea typeface="Jadid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8E79-7884-41F3-9F7A-13E673476DB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243792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رزيابي گزينه‏هاي مختلف استراتژي:</a:t>
            </a:r>
            <a:r>
              <a:rPr b="1" i="1" lang="ar-SA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ا معيارهاي انتخابي شامل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علاقة ذي‏نفع‏ها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اثربخش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ارآي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85dfd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02a00"/>
                </a:solidFill>
                <a:latin typeface="Times New Roman"/>
                <a:cs typeface="Times New Roman"/>
              </a:rPr>
              <a:t>كمترين تاثيرات سوء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انتخاب يك استراتژ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20280" indent="-620280" algn="r" rtl="1">
              <a:lnSpc>
                <a:spcPct val="160000"/>
              </a:lnSpc>
              <a:spcBef>
                <a:spcPts val="700"/>
              </a:spcBef>
              <a:buClr>
                <a:srgbClr val="660066"/>
              </a:buClr>
              <a:buSzPct val="11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توصيف سازمان در آينده و چشم‏انداز موفقيّت :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درصورت اجراي استراتژي انتخاب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مشخصات تصميم‏هاي استراتژيك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A4D1-F023-4DC9-9E32-C182DBD36FA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755640" y="1700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ر ارتباط با چشم‏انداز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تطابق با محيط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ا سازگاري فعاليّت‏ها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نابع سروكا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منابع سازمان تاثيرات عم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تصميمات عملياتي تاثير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تحت تاثير انتظارات و ارزش‏هاي افراد قدرتمند مي‏باش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بر جهت‏گيري درازمدّت سازمان تاثير مي‏گذ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 rtl="1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طبيعت پيچيده دارن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66600" y="351000"/>
            <a:ext cx="6289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راه‏كارهاي استراتژي‏هاي اصلي</a:t>
            </a:r>
            <a:br>
              <a:rPr sz="2900"/>
            </a:b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eneric Strategy Alternatives</a:t>
            </a:r>
            <a:r>
              <a:rPr b="1" i="1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B7D4-2FBE-46A0-AD78-0385D2C3AE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28400" y="2286000"/>
            <a:ext cx="8358120" cy="2743200"/>
          </a:xfrm>
          <a:prstGeom prst="rect">
            <a:avLst/>
          </a:prstGeom>
          <a:solidFill>
            <a:srgbClr val="e5f4e0"/>
          </a:solidFill>
          <a:ln w="76320">
            <a:solidFill>
              <a:srgbClr val="0b5395"/>
            </a:solidFill>
            <a:miter/>
          </a:ln>
        </p:spPr>
        <p:txBody>
          <a:bodyPr anchor="ctr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رشد يا تهاجم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Growth or Offensive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ثبات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ability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كاهش يا تدافع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Retrenchment or</a:t>
            </a:r>
            <a:r>
              <a:rPr b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Defensive</a:t>
            </a:r>
            <a:r>
              <a:rPr b="1" i="1" lang="en-US" sz="30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a00"/>
                </a:solidFill>
                <a:latin typeface="Times New Roman"/>
                <a:cs typeface="Times New Roman"/>
              </a:rPr>
              <a:t>استراتژي‏هاي تركيبي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Combination  Strategies</a:t>
            </a:r>
            <a:r>
              <a:rPr b="1" i="1" lang="en-US" sz="22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)</a:t>
            </a:r>
            <a:r>
              <a:rPr b="1" lang="en-US" sz="2900" spc="-1" strike="noStrike">
                <a:solidFill>
                  <a:srgbClr val="003a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837-2F70-414E-AD1E-F3CD57F57DC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AutoShape 4"/>
          <p:cNvGrpSpPr/>
          <p:nvPr/>
        </p:nvGrpSpPr>
        <p:grpSpPr>
          <a:xfrm>
            <a:off x="1852560" y="2352600"/>
            <a:ext cx="6181920" cy="2371680"/>
            <a:chOff x="1852560" y="2352600"/>
            <a:chExt cx="6181920" cy="2371680"/>
          </a:xfrm>
        </p:grpSpPr>
        <p:pic>
          <p:nvPicPr>
            <p:cNvPr id="659" name="AutoShape 4" descr=""/>
            <p:cNvPicPr/>
            <p:nvPr/>
          </p:nvPicPr>
          <p:blipFill>
            <a:blip r:embed="rId1"/>
            <a:stretch/>
          </p:blipFill>
          <p:spPr>
            <a:xfrm>
              <a:off x="1852560" y="2352600"/>
              <a:ext cx="618192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1973160" y="2473200"/>
              <a:ext cx="594036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 u="sng">
                  <a:solidFill>
                    <a:srgbClr val="115964"/>
                  </a:solidFill>
                  <a:uFillTx/>
                  <a:latin typeface="Times New Roman"/>
                  <a:cs typeface="Times New Roman"/>
                </a:rPr>
                <a:t>اجراي استراتژ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(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raffic"/>
                </a:rPr>
                <a:t>Strategy Implementation</a:t>
              </a:r>
              <a:r>
                <a:rPr b="1" i="1" lang="en-US" sz="3600" spc="-1" strike="noStrike">
                  <a:solidFill>
                    <a:srgbClr val="115964"/>
                  </a:solidFill>
                  <a:latin typeface="Times New Roman"/>
                  <a:ea typeface="Titr Mazar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تدوين برنامة عمليات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D926-860D-47AF-8A50-2B6DA647DF2B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26560" y="1928520"/>
            <a:ext cx="741708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عد از انتخاب استراتژي اصلي سازمان، استراتژي مزبور به يك طرح عملياتي ترجمه مي‏شود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: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(شامل  اهداف كمّي،  طرح،  تخصيص منابع،  و  بودجه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ضمناً خط‏‏</a:t>
            </a:r>
            <a:r>
              <a:rPr b="1" lang="fa-IR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lang="ar-SA" sz="31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شي، روش‏ها و مقررات (برنامه‏هاي جاري) نيز تدوين مي‏شود و سازمان‏دهي و مسائل انگيزش كاركنان و اتخاذ سبك رهبري مناسب نيز در نظر گرفته مي‏شود</a:t>
            </a:r>
            <a:r>
              <a:rPr b="1" lang="fa-IR" sz="3100" spc="-1" strike="noStrike">
                <a:solidFill>
                  <a:srgbClr val="000000"/>
                </a:solidFill>
                <a:latin typeface="Tw Cen MT"/>
                <a:ea typeface="Traffic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B292-2C8A-484C-806D-F32E0AE29242}" type="slidenum">
              <a:rPr b="1" lang="fa-IR" sz="1400" spc="-1" strike="noStrike">
                <a:solidFill>
                  <a:srgbClr val="04617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"/>
          <p:cNvSpPr/>
          <p:nvPr/>
        </p:nvSpPr>
        <p:spPr>
          <a:xfrm>
            <a:off x="2743200" y="2438280"/>
            <a:ext cx="1295280" cy="27432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 flipV="1">
            <a:off x="6248520" y="1828800"/>
            <a:ext cx="1218960" cy="28195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493200 h 2819520"/>
              <a:gd name="textAreaBottom" fmla="*/ 2044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4114800" y="4724280"/>
            <a:ext cx="2666880" cy="990720"/>
          </a:xfrm>
          <a:custGeom>
            <a:avLst/>
            <a:gdLst>
              <a:gd name="textAreaLeft" fmla="*/ 466560 w 2666880"/>
              <a:gd name="textAreaRight" fmla="*/ 1933560 w 266688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 flipH="1">
            <a:off x="3505320" y="1295280"/>
            <a:ext cx="2666880" cy="1067040"/>
          </a:xfrm>
          <a:custGeom>
            <a:avLst/>
            <a:gdLst>
              <a:gd name="textAreaLeft" fmla="*/ 466920 w 2666880"/>
              <a:gd name="textAreaRight" fmla="*/ 1933920 w 2666880"/>
              <a:gd name="textAreaTop" fmla="*/ 142920 h 1067040"/>
              <a:gd name="textAreaBottom" fmla="*/ 9241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f6fc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195800" y="8571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ffic"/>
              </a:rPr>
              <a:t>برنامه‏ري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 flipV="1">
            <a:off x="2212920" y="2819520"/>
            <a:ext cx="546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سازمان‏د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66480" y="579132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Traffic"/>
              </a:rPr>
              <a:t>رهب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7104960" y="28195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cc"/>
                </a:solidFill>
                <a:latin typeface="Times New Roman"/>
                <a:cs typeface="Traffic"/>
              </a:rPr>
              <a:t>كنتر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733920" y="2819520"/>
            <a:ext cx="2666880" cy="1523880"/>
          </a:xfrm>
          <a:prstGeom prst="ellipse">
            <a:avLst/>
          </a:prstGeom>
          <a:gradFill rotWithShape="0">
            <a:gsLst>
              <a:gs pos="0">
                <a:srgbClr val="c5ecff"/>
              </a:gs>
              <a:gs pos="100000">
                <a:srgbClr val="adcfe0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cs typeface="Traffic"/>
              </a:rPr>
              <a:t>دستيابي به اهد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762120" y="9144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تباط وظايف مديريّ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300-B4C5-427F-AEFA-C0D1B87C4AF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42960" y="2000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200"/>
                </a:solidFill>
                <a:latin typeface="Times New Roman"/>
                <a:cs typeface="Times New Roman"/>
              </a:rPr>
              <a:t>پيش‏بيني و تعيين مراحل و توالي فعّاليّت‏هاي لازم براي تأمين اهداف استراتژيك از طريق وسايل (تاكتيك‏ها)، به‏تفكيك زمان، هزينه، نيروي انساني لازم، برنامه‏ريزي عملياتي ‏ناميده مي‏شود</a:t>
            </a:r>
            <a:r>
              <a:rPr b="1" lang="fa-IR" sz="2400" spc="-1" strike="noStrike">
                <a:solidFill>
                  <a:srgbClr val="0032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5c"/>
                </a:solidFill>
                <a:uFillTx/>
                <a:latin typeface="Times New Roman"/>
                <a:cs typeface="Times New Roman"/>
              </a:rPr>
              <a:t>انوا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just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جار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tanding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تكراري و روزمر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يك‏بار مصرف يا مداخله‏اي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ingle-Use or Interventional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:</a:t>
            </a:r>
            <a:r>
              <a:rPr b="1" i="1" lang="ar-SA" sz="2400" spc="-1" strike="noStrike">
                <a:solidFill>
                  <a:srgbClr val="00005c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3600"/>
                </a:solidFill>
                <a:latin typeface="Times New Roman"/>
                <a:cs typeface="Times New Roman"/>
              </a:rPr>
              <a:t>مربوط به اهداف استثنايي، غيرتكراري، مانند طرح‏ها 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Projects</a:t>
            </a:r>
            <a:r>
              <a:rPr b="1" i="1" lang="en-US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1357200" y="214200"/>
            <a:ext cx="64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برنامه‏ريزي عملياتي يا اجرايي</a:t>
            </a:r>
            <a:r>
              <a:rPr b="1" lang="ar-SA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Operational Planning</a:t>
            </a:r>
            <a:r>
              <a:rPr b="1" i="1" lang="en-US" sz="32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571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راحل برنامه‏ريزي عملياتي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2112-B877-4A21-ACB0-8A0F84840D8C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26920" y="1699920"/>
            <a:ext cx="792504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spcBef>
                <a:spcPts val="700"/>
              </a:spcBef>
              <a:buClr>
                <a:srgbClr val="115964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3600" spc="-1" strike="noStrike">
                <a:solidFill>
                  <a:srgbClr val="00b050"/>
                </a:solidFill>
                <a:latin typeface="Tw Cen MT"/>
                <a:ea typeface="Titr Mazar"/>
              </a:rPr>
              <a:t> </a:t>
            </a:r>
            <a:r>
              <a:rPr b="1" i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جزيه و تحليل وضعيّت موجود</a:t>
            </a:r>
            <a:r>
              <a:rPr b="1" i="1" lang="fa-IR" sz="3600" spc="-1" strike="noStrike">
                <a:solidFill>
                  <a:srgbClr val="115964"/>
                </a:solidFill>
                <a:latin typeface="Tw Cen M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طرق نيل (استراتژي‏ها) به اهداف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فعّاليّت‏هاي لازم براي هر استراتژ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بيان شرح تفصيلي هر فعّاليّ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115964"/>
                </a:solidFill>
                <a:latin typeface="Tw Cen MT"/>
                <a:cs typeface="Arial"/>
              </a:rPr>
              <a:t>تعيين شيوه پايش و ارزشيابي برنام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جزيه و تحليل وضعيّت موجود منطق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F7D0-5B41-4AC4-8DFA-F299DF6BF0A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762120" y="18284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عيين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مورد لزو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جمع‏آوري داده‏ه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 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 لازم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نظام ثبت و گزارش جاري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598760" indent="-457200" algn="r" rtl="1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بررسي‏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ه</a:t>
            </a:r>
            <a:r>
              <a:rPr b="1" lang="ar-SA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ا</a:t>
            </a:r>
            <a:r>
              <a:rPr b="1" lang="fa-IR" sz="1800" spc="-1" strike="noStrike">
                <a:solidFill>
                  <a:srgbClr val="990000"/>
                </a:solidFill>
                <a:latin typeface="Times New Roman"/>
                <a:cs typeface="Times New Roman"/>
              </a:rPr>
              <a:t>ي مقطعي</a:t>
            </a:r>
            <a:r>
              <a:rPr b="1" lang="fa-IR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arn-CL" sz="23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urvey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fa-IR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جزيه و تحليل داده‏ه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ه‏منظو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آ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د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ز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 (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خ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ص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ة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ف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ح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‏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ظ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و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ر 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ع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ي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ش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ك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ل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ت 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ن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ط</a:t>
            </a: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ق</a:t>
            </a:r>
            <a:r>
              <a:rPr b="1" lang="ar-SA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2a0c98"/>
                </a:solidFill>
                <a:latin typeface="Times New Roman"/>
                <a:cs typeface="Times New Roman"/>
              </a:rPr>
              <a:t>الويت‏بندي مشكل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Line 4"/>
          <p:cNvSpPr/>
          <p:nvPr/>
        </p:nvSpPr>
        <p:spPr>
          <a:xfrm flipV="1">
            <a:off x="7772400" y="2971440"/>
            <a:ext cx="0" cy="762120"/>
          </a:xfrm>
          <a:prstGeom prst="line">
            <a:avLst/>
          </a:prstGeom>
          <a:ln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عيين اهداف برنامه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43A-A6D4-4560-823A-C5E3684C7E32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714240" y="2071800"/>
            <a:ext cx="7848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Goals or Main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كل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اتوجه به مشكلات اولويّت‏دار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مأموريت سازمان، به‏صورت كلي، غير كمّي و جهت‏دار 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Objectives or Specific Objectives)</a:t>
            </a:r>
            <a:r>
              <a:rPr b="1" lang="en-US" sz="29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115964"/>
                </a:solidFill>
                <a:uFillTx/>
                <a:latin typeface="Times New Roman"/>
                <a:cs typeface="Times New Roman"/>
              </a:rPr>
              <a:t>اهداف اختصاص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جزاي تشكيل دهنده هدف كلي را به‏صورت مشخص 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 قابل سنجش 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ي‏سازد. بدين وسيله برنامه قابل ارزشيابي مي‏گردد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هميّت اهداف برنام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2447-091E-4DF5-AC41-19D48C2B24B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39640" y="1844280"/>
            <a:ext cx="8229600" cy="36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سير و جهت حركت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و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ح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د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ي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 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ز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i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‏را مشخص مي‏كن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وجب تمركز تلاش‏ها و هماهنگي فعّاليّت‏ها مي‏گرد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تصميمات را رهنمون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سبب ايجاد انگيزه براي اجراي عمليات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(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ب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ر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ن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</a:t>
            </a:r>
            <a:r>
              <a:rPr b="1" lang="ar-SA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م</a:t>
            </a:r>
            <a:r>
              <a:rPr b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ه)،</a:t>
            </a: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مي‏شو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79880" indent="-479880" algn="r" rtl="1">
              <a:lnSpc>
                <a:spcPct val="11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115964"/>
                </a:solidFill>
                <a:latin typeface="Times New Roman"/>
                <a:cs typeface="Times New Roman"/>
              </a:rPr>
              <a:t>ارزشيابي برنامه را ممكن مي‏سازد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كاتي كه در تعيين اهداف مي‏بايستي رعايت شود</a:t>
            </a:r>
            <a:r>
              <a:rPr b="1" lang="fa-IR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63F5-9AA7-439B-8EDA-E5B799394FC4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09480" y="1828440"/>
            <a:ext cx="830592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عوامل مؤثر بر بروز مشكلات وتوجه به شرايط محيطي، منابع داخلي و آيند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وجه به واقعيّات </a:t>
            </a:r>
            <a:r>
              <a:rPr b="0" i="1" lang="fa-IR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تعيين اهداف دست‏يافت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مّي كردن اهداف (منظور كردن قيد زماني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عيين اهداف با مشاركت كاركنان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رنظر داشتن مقصد و چشم‏انداز نهايي واولويّت‏بندي اهدا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ب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‏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ه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ت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ج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گ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 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ر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ا خ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ث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ي 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ك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ar-SA" sz="29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r>
              <a:rPr b="1" lang="fa-IR" sz="2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264600"/>
            <a:ext cx="8786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خصوصيات اهداف اختصاصي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pecific Objectives</a:t>
            </a: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7D3-EA2B-4B58-BB27-2A394D04B3F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6002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قابل اندازه‏گير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M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asur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ست‏يافتن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A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ttainable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مرتبط با هدف كلي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R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elevan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711360" indent="-711360" algn="r" rtl="1">
              <a:lnSpc>
                <a:spcPct val="90000"/>
              </a:lnSpc>
              <a:spcBef>
                <a:spcPts val="700"/>
              </a:spcBef>
              <a:buClr>
                <a:srgbClr val="003600"/>
              </a:buClr>
              <a:buSzPct val="8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 داراي زمان مشخص باشند</a:t>
            </a:r>
            <a:r>
              <a:rPr b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 </a:t>
            </a:r>
            <a:r>
              <a:rPr b="1" i="1" lang="en-US" sz="2900" spc="-1" strike="noStrike">
                <a:solidFill>
                  <a:srgbClr val="cc0000"/>
                </a:solidFill>
                <a:latin typeface="Tw Cen MT"/>
                <a:ea typeface="Traffic"/>
              </a:rPr>
              <a:t>T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ime-bounded</a:t>
            </a:r>
            <a:r>
              <a:rPr b="1" i="1" lang="en-US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r>
              <a:rPr b="1" i="1" lang="ar-SA" sz="2800" spc="-1" strike="noStrike">
                <a:solidFill>
                  <a:srgbClr val="003600"/>
                </a:solidFill>
                <a:latin typeface="Tw Cen MT"/>
                <a:ea typeface="Traff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Oval 4"/>
          <p:cNvSpPr/>
          <p:nvPr/>
        </p:nvSpPr>
        <p:spPr>
          <a:xfrm>
            <a:off x="1600200" y="4419720"/>
            <a:ext cx="6553080" cy="2133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c2e00"/>
                </a:solidFill>
                <a:uFillTx/>
                <a:latin typeface="Times New Roman"/>
                <a:cs typeface="Traffic"/>
              </a:rPr>
              <a:t>به‏طور كلي 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اهداف اختصاصي بايد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raffic"/>
              </a:rPr>
              <a:t>SMART</a:t>
            </a:r>
            <a:r>
              <a:rPr b="1" lang="ar-SA" sz="3200" spc="-1" strike="noStrike">
                <a:solidFill>
                  <a:srgbClr val="5c2e00"/>
                </a:solidFill>
                <a:latin typeface="Times New Roman"/>
                <a:ea typeface="Traffic"/>
              </a:rPr>
              <a:t> </a:t>
            </a:r>
            <a:r>
              <a:rPr b="1" lang="ar-SA" sz="3200" spc="-1" strike="noStrike">
                <a:solidFill>
                  <a:srgbClr val="00005c"/>
                </a:solidFill>
                <a:latin typeface="Times New Roman"/>
                <a:cs typeface="Traffic"/>
              </a:rPr>
              <a:t>باش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"/>
          <p:cNvSpPr/>
          <p:nvPr/>
        </p:nvSpPr>
        <p:spPr>
          <a:xfrm>
            <a:off x="3000240" y="20718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6"/>
          <p:cNvSpPr/>
          <p:nvPr/>
        </p:nvSpPr>
        <p:spPr>
          <a:xfrm>
            <a:off x="3643200" y="257184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>
            <a:off x="2928960" y="300024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2971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2214720" y="357192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Strategies)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استراتژي‏ه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68E7-9D75-43F7-B8B6-468DB018D79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1404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3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w Cen MT"/>
                <a:ea typeface="Traffic"/>
              </a:rPr>
              <a:t> </a:t>
            </a:r>
            <a:r>
              <a:rPr b="1" lang="fa-IR" sz="28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ستراتژي يعني تعيين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طريق يا روش رسيدن به اهدا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4617b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راي تعيين استراتژي‏ها مي‏توان از عوامل مؤثر بر ايجاد اهداف اختصاصي استفاده نمود</a:t>
            </a:r>
            <a:r>
              <a:rPr b="1" lang="fa-IR" sz="2800" spc="-1" strike="noStrike">
                <a:solidFill>
                  <a:srgbClr val="177715"/>
                </a:solidFill>
                <a:latin typeface="Times New Roman"/>
                <a:ea typeface="Times New Roman"/>
              </a:rPr>
              <a:t> </a:t>
            </a:r>
            <a:r>
              <a:rPr b="1" i="1" lang="fa-IR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با استفاده از شبكه عليّت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just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5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استراتژي‏هاي انتخابي نيز همانند اهداف، جهت انتخاب،  مي‏بايستي اولويّت‏بندي شو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ctr" rtl="1">
              <a:lnSpc>
                <a:spcPct val="120000"/>
              </a:lnSpc>
              <a:spcBef>
                <a:spcPts val="700"/>
              </a:spcBef>
              <a:buClr>
                <a:srgbClr val="009dd9"/>
              </a:buClr>
              <a:buSzPct val="110000"/>
              <a:buFont typeface="_MRT_Win2Farsi_3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استراتژي‏ها برخلاف اهداف حالت كمّي ندارن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Activities)</a:t>
            </a:r>
            <a:r>
              <a:rPr b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عيين فعّاليّت‏ها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FBA4-B798-487A-A071-1EF06FC5DD4E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228600" y="1523520"/>
            <a:ext cx="868680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e32011"/>
                </a:solidFill>
                <a:latin typeface="Times New Roman"/>
                <a:cs typeface="Times New Roman"/>
              </a:rPr>
              <a:t>هدف از برنامه‏ريزي تبديل اهداف به فعّاليّت‏ها مي‏باشد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 u="sng">
                <a:solidFill>
                  <a:srgbClr val="000062"/>
                </a:solidFill>
                <a:uFillTx/>
                <a:latin typeface="Times New Roman"/>
                <a:cs typeface="Times New Roman"/>
              </a:rPr>
              <a:t>انواع فعّاليّ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جاري: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ف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ّ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ّ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ز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ط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س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ع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‏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،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ق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آ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ئ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ص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‏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گ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د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 u="sng">
                <a:solidFill>
                  <a:srgbClr val="003600"/>
                </a:solidFill>
                <a:uFillTx/>
                <a:latin typeface="Times New Roman"/>
                <a:cs typeface="Times New Roman"/>
              </a:rPr>
              <a:t>فعّاليّت‏هاي مداخله‏اي</a:t>
            </a:r>
            <a:r>
              <a:rPr b="1" lang="fa-IR" sz="2400" spc="-1" strike="noStrike">
                <a:solidFill>
                  <a:srgbClr val="003600"/>
                </a:solidFill>
                <a:latin typeface="Times New Roman"/>
                <a:ea typeface="Times New Roman"/>
              </a:rPr>
              <a:t>:</a:t>
            </a:r>
            <a:r>
              <a:rPr b="1" lang="fa-IR" sz="2800" spc="-1" strike="noStrike">
                <a:solidFill>
                  <a:srgbClr val="81755b"/>
                </a:solidFill>
                <a:latin typeface="Times New Roman"/>
                <a:ea typeface="Times New Roman"/>
              </a:rPr>
              <a:t>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براساس مشكلات خاصّ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و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ه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 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غ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ت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ك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، ا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ن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ج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ا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 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م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‏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گ</a:t>
            </a:r>
            <a:r>
              <a:rPr b="1" lang="ar-SA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ي</a:t>
            </a: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ر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e32011"/>
                </a:solidFill>
                <a:uFillTx/>
                <a:latin typeface="Times New Roman"/>
                <a:cs typeface="Times New Roman"/>
              </a:rPr>
              <a:t>برنامه عملياتي مي‏بايستي شامل هر دو نوع فعّاليّت‏ باش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005c"/>
              </a:buClr>
              <a:buSzPct val="90000"/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2"/>
                </a:solidFill>
                <a:latin typeface="Times New Roman"/>
                <a:cs typeface="Times New Roman"/>
              </a:rPr>
              <a:t>فعّاليّت‏هاي جاري در بخش جدول تفصيلي به فعّاليّت‏هاي مداخله‏اي اضافه مي‏شون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 u="sng">
                <a:solidFill>
                  <a:srgbClr val="660066"/>
                </a:solidFill>
                <a:uFillTx/>
                <a:latin typeface="Times New Roman"/>
                <a:cs typeface="Times New Roman"/>
              </a:rPr>
              <a:t>فعّاليّت‏ها را نيز مي‏توان، عوامل مؤثر بر استراتژي‏ها، درنظر گرفت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85280" indent="-485280" algn="ctr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10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فعّاليّت‏ها نيز مي‏بايستي اولويت‏بندي 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ش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و</a:t>
            </a:r>
            <a:r>
              <a:rPr b="1" lang="ar-SA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ن</a:t>
            </a:r>
            <a:r>
              <a:rPr b="1" lang="fa-IR" sz="2400" spc="-1" strike="noStrike">
                <a:solidFill>
                  <a:srgbClr val="003300"/>
                </a:solidFill>
                <a:latin typeface="Times New Roman"/>
                <a:cs typeface="Times New Roman"/>
              </a:rPr>
              <a:t>د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شرح تفصيلي فعّاليّت‏ها (سازمان‏دهي فعّاليّت‏ها)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079B-B5DD-4330-A384-0363B4F83428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609480" y="1828800"/>
          <a:ext cx="8305920" cy="47340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14400"/>
                <a:gridCol w="1219320"/>
                <a:gridCol w="761760"/>
                <a:gridCol w="990720"/>
                <a:gridCol w="914400"/>
                <a:gridCol w="990720"/>
                <a:gridCol w="609480"/>
              </a:tblGrid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محل تأمين اعتب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ل هزين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شيو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ة پاي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اقدامات پشتيب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كجا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زمان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كسي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چه چيز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4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ردي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w Cen MT"/>
                <a:cs typeface="Arial"/>
              </a:rPr>
              <a:t>تعریف برنامه ریزی</a:t>
            </a:r>
            <a:r>
              <a:rPr b="1" lang="fa-IR" sz="4400" spc="-1" strike="noStrike">
                <a:solidFill>
                  <a:srgbClr val="04617b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0627-21A9-4A30-AC48-8FC2F3F9ECA1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928520"/>
            <a:ext cx="8115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بارت است از تهيه و توزيع و تخصيص 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کانات</a:t>
            </a:r>
            <a:r>
              <a:rPr b="1" lang="ar-SA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حدود براي رسيدن به هدف هاي مطلوب، در حداقل زمان و با حداقل هزينه ممكن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فرايند دستيابي به اهداف سازمان است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AutoShape 2"/>
          <p:cNvSpPr/>
          <p:nvPr/>
        </p:nvSpPr>
        <p:spPr>
          <a:xfrm>
            <a:off x="2286000" y="4643280"/>
            <a:ext cx="4857840" cy="1236960"/>
          </a:xfrm>
          <a:prstGeom prst="cloudCallout">
            <a:avLst>
              <a:gd name="adj1" fmla="val 162"/>
              <a:gd name="adj2" fmla="val 574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برنامه ريز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6357960" y="4000680"/>
            <a:ext cx="785880" cy="618840"/>
          </a:xfrm>
          <a:prstGeom prst="ellipse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هد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627280" y="4143240"/>
            <a:ext cx="639720" cy="444600"/>
          </a:xfrm>
          <a:prstGeom prst="rect">
            <a:avLst/>
          </a:prstGeom>
          <a:solidFill>
            <a:srgbClr val="fbf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Homa"/>
              </a:rPr>
              <a:t>فعالي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3276720" y="4365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دول زمان‏بندي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(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ime Table</a:t>
            </a:r>
            <a:r>
              <a:rPr b="1" i="1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 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D806-2E41-4555-B8E7-B2DBBB25815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62120" y="1752120"/>
            <a:ext cx="8076960" cy="46054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مهمترين و متداول‏ترين جدول زمان‏بندي مورد استفاده جدول گانت مي‏باشد كه قدمت آن به يك قرن مي‏رس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ابزار سودمند مديريّتي براي برنامه‏ريزي و كنترل (پايش فعّاليّت‏ها) مي‏باشد كه ترتيب زماني فعّاليّت‏هاي پيش‏بيني (برنامه‏ريزي) شده و فعاّليّت‏هاي انجام‏گرفته را نشان مي‏ده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جدول گانت يك نمودار ستوني است كه زمان در محور افقي  و فعّاليّت‏ها در محور عمودي آن قرار گرفته‏ان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ستون‏هاي نمودار نشان‏دهندة نتيجة كار در يك مدّت معين است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براي تهية نمودار گانت ابتدا كلية فعّاليّت‏هاي هر استراتژي ليست شده، سپس موعد و مدّت زمان هر فعّاليّت پيش‏بيني مي‏شود و براساس تقدّم زماني، جدول گانت رسم مي‏گردد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 rtl="1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SzPct val="9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8684e"/>
                </a:solidFill>
                <a:latin typeface="Times New Roman"/>
                <a:cs typeface="Times New Roman"/>
              </a:rPr>
              <a:t>درحين اجراي برنامه، فعّاليْت‏هايي كه عملاً انجام گرفته‏اند نيز در جدول ، براي مقايسه (پايش) و انجام اقدامات اصلاحي، مشخص مي</a:t>
            </a:r>
            <a:r>
              <a:rPr b="1" lang="ar-SA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‏شوند </a:t>
            </a:r>
            <a:r>
              <a:rPr b="1" lang="fa-IR" sz="2200" spc="-1" strike="noStrike">
                <a:solidFill>
                  <a:srgbClr val="08684e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جدول گانت</a:t>
            </a:r>
            <a:r>
              <a:rPr b="1" i="1" lang="ar-SA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Gantt Chart</a:t>
            </a:r>
            <a:r>
              <a:rPr b="1" i="1" lang="en-US" sz="4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DF59-7510-4C2D-839D-5C64FE5144EF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85800" y="2133720"/>
          <a:ext cx="8153280" cy="34542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9144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cs typeface="Traffic"/>
                        </a:rPr>
                        <a:t>ماه </a:t>
                      </a:r>
                      <a:r>
                        <a:rPr b="1" lang="ar-SA" sz="2000" spc="-1" strike="noStrike">
                          <a:solidFill>
                            <a:srgbClr val="000066"/>
                          </a:solidFill>
                          <a:latin typeface="Arial"/>
                          <a:ea typeface="Traffic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ea typeface="Titr Mazar"/>
                        </a:rPr>
                        <a:t>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d9d9d9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Jadid"/>
                        </a:rPr>
                        <a:t>فعّاليّت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Jadi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07" name="Line 75"/>
          <p:cNvSpPr/>
          <p:nvPr/>
        </p:nvSpPr>
        <p:spPr>
          <a:xfrm flipH="1">
            <a:off x="6934320" y="3657600"/>
            <a:ext cx="76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Rectangle 76"/>
          <p:cNvGrpSpPr/>
          <p:nvPr/>
        </p:nvGrpSpPr>
        <p:grpSpPr>
          <a:xfrm>
            <a:off x="2651040" y="5761080"/>
            <a:ext cx="4230720" cy="1017720"/>
            <a:chOff x="2651040" y="5761080"/>
            <a:chExt cx="4230720" cy="1017720"/>
          </a:xfrm>
        </p:grpSpPr>
        <p:pic>
          <p:nvPicPr>
            <p:cNvPr id="709" name="Rectangle 76" descr=""/>
            <p:cNvPicPr/>
            <p:nvPr/>
          </p:nvPicPr>
          <p:blipFill>
            <a:blip r:embed="rId17"/>
            <a:stretch/>
          </p:blipFill>
          <p:spPr>
            <a:xfrm>
              <a:off x="2651040" y="5761080"/>
              <a:ext cx="423072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743200" y="5867280"/>
              <a:ext cx="4038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raffic"/>
                </a:rPr>
                <a:t>   </a:t>
              </a:r>
              <a:r>
                <a:rPr b="1" lang="ar-SA" sz="2400" spc="-1" strike="noStrike">
                  <a:solidFill>
                    <a:srgbClr val="0b5395"/>
                  </a:solidFill>
                  <a:latin typeface="Times New Roman"/>
                  <a:ea typeface="Titr Mazar"/>
                </a:rPr>
                <a:t>×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مي‏بايستي انجام شو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ea typeface="Traffic"/>
                </a:rPr>
                <a:t>            </a:t>
              </a:r>
              <a:r>
                <a:rPr b="1" lang="ar-SA" sz="2000" spc="-1" strike="noStrike">
                  <a:solidFill>
                    <a:srgbClr val="0b5395"/>
                  </a:solidFill>
                  <a:latin typeface="Times New Roman"/>
                  <a:cs typeface="Traffic"/>
                </a:rPr>
                <a:t>فعّاليّتي كه انجام شده‏اس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Line 77"/>
          <p:cNvSpPr/>
          <p:nvPr/>
        </p:nvSpPr>
        <p:spPr>
          <a:xfrm flipH="1">
            <a:off x="6172200" y="6477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26B3-B3BF-4564-A342-A04DA1AC7D0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0" y="0"/>
            <a:ext cx="91440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"/>
          <p:cNvSpPr/>
          <p:nvPr/>
        </p:nvSpPr>
        <p:spPr>
          <a:xfrm>
            <a:off x="1908000" y="1773360"/>
            <a:ext cx="6248520" cy="236196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10080">
            <a:solidFill>
              <a:srgbClr val="0bd0d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b5395"/>
                </a:solidFill>
                <a:uFillTx/>
                <a:latin typeface="Times New Roman"/>
                <a:cs typeface="Times New Roman"/>
              </a:rPr>
              <a:t>ارزشيابي و كنتر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4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"/>
          <p:cNvSpPr/>
          <p:nvPr/>
        </p:nvSpPr>
        <p:spPr>
          <a:xfrm flipV="1">
            <a:off x="990720" y="523440"/>
            <a:ext cx="0" cy="416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رزشيابي و كنترل</a:t>
            </a:r>
            <a:br>
              <a:rPr sz="3200"/>
            </a:b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valuation &amp; Control</a:t>
            </a:r>
            <a:r>
              <a:rPr b="1" i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8FAF-AD75-4602-A4E2-4710C7497F2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928800" y="1928880"/>
            <a:ext cx="78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a50021"/>
                </a:solidFill>
                <a:uFillTx/>
                <a:latin typeface="Times New Roman"/>
                <a:cs typeface="Times New Roman"/>
              </a:rPr>
              <a:t>تعريف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80808"/>
                </a:solidFill>
                <a:latin typeface="Times New Roman"/>
                <a:cs typeface="Times New Roman"/>
              </a:rPr>
              <a:t>انطباق نتايج با اهداف برنامه و اقدامات اصلاحي درصورت لزوم در اجزا برنامه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(از 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Vision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تا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Action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 </a:t>
            </a:r>
            <a:r>
              <a:rPr b="1" i="1" lang="ar-SA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800000"/>
                </a:solidFill>
                <a:uFillTx/>
                <a:latin typeface="Times New Roman"/>
                <a:cs typeface="Times New Roman"/>
              </a:rPr>
              <a:t>از نظر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ساختار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ructure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سيستم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ystem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رفتار </a:t>
            </a:r>
            <a:r>
              <a:rPr b="1" i="1" lang="ar-SA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ehavior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 بدون تعيين استراتژي نبايد در ساختار، سيستم و رفتار تغيير ايجاد نمود</a:t>
            </a:r>
            <a:r>
              <a:rPr b="1" lang="fa-IR" sz="2400" spc="-1" strike="noStrike">
                <a:solidFill>
                  <a:srgbClr val="df091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6939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ر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ن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</a:t>
            </a:r>
            <a:r>
              <a:rPr b="1" lang="fa-IR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م</a:t>
            </a: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2023-FC10-4560-8573-612A243E3D9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61760" y="1828800"/>
            <a:ext cx="792468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ارزشيابي</a:t>
            </a:r>
            <a:r>
              <a:rPr b="1" lang="fa-I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valuation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سنجش ميزان تحقق اهداف (اختصاصي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 rtl="1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 u="sng">
                <a:solidFill>
                  <a:srgbClr val="000066"/>
                </a:solidFill>
                <a:uFillTx/>
                <a:latin typeface="Times New Roman"/>
                <a:cs typeface="Times New Roman"/>
              </a:rPr>
              <a:t>پايش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ing</a:t>
            </a:r>
            <a:r>
              <a:rPr b="1" i="1" lang="arn-CL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i="1" lang="ar-SA" sz="2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33520" indent="-533520" algn="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نطباق فعّاليّت‏ها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ي در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ح</a:t>
            </a:r>
            <a:r>
              <a:rPr b="1" lang="ar-SA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ا</a:t>
            </a:r>
            <a:r>
              <a:rPr b="1" lang="fa-IR" sz="2800" spc="-1" strike="noStrike">
                <a:solidFill>
                  <a:srgbClr val="4d453d"/>
                </a:solidFill>
                <a:latin typeface="Times New Roman"/>
                <a:cs typeface="Times New Roman"/>
              </a:rPr>
              <a:t>ل اجرا با استانداردهاي برنام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EA0-BD44-4A98-BCDB-13CD1429DA26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"/>
          <p:cNvSpPr/>
          <p:nvPr/>
        </p:nvSpPr>
        <p:spPr>
          <a:xfrm>
            <a:off x="1447920" y="3809880"/>
            <a:ext cx="914400" cy="533520"/>
          </a:xfrm>
          <a:prstGeom prst="rect">
            <a:avLst/>
          </a:prstGeom>
          <a:gradFill rotWithShape="0">
            <a:gsLst>
              <a:gs pos="0">
                <a:srgbClr val="cccecf"/>
              </a:gs>
              <a:gs pos="100000">
                <a:srgbClr val="f9fbfd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"/>
          <p:cNvSpPr/>
          <p:nvPr/>
        </p:nvSpPr>
        <p:spPr>
          <a:xfrm>
            <a:off x="23623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6668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b5b9be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5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038480" y="3809880"/>
            <a:ext cx="1067040" cy="533520"/>
          </a:xfrm>
          <a:prstGeom prst="rect">
            <a:avLst/>
          </a:prstGeom>
          <a:gradFill rotWithShape="0">
            <a:gsLst>
              <a:gs pos="0">
                <a:srgbClr val="cad0d5"/>
              </a:gs>
              <a:gs pos="100000">
                <a:srgbClr val="eff5fb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5105520" y="411480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5410080" y="3809880"/>
            <a:ext cx="1371600" cy="533520"/>
          </a:xfrm>
          <a:prstGeom prst="rect">
            <a:avLst/>
          </a:prstGeom>
          <a:gradFill rotWithShape="0">
            <a:gsLst>
              <a:gs pos="0">
                <a:srgbClr val="cfd9e2"/>
              </a:gs>
              <a:gs pos="100000">
                <a:srgbClr val="e4eef8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"/>
          <p:cNvSpPr/>
          <p:nvPr/>
        </p:nvSpPr>
        <p:spPr>
          <a:xfrm>
            <a:off x="6781680" y="411480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7086600" y="3809880"/>
            <a:ext cx="1066680" cy="533520"/>
          </a:xfrm>
          <a:prstGeom prst="rect">
            <a:avLst/>
          </a:prstGeom>
          <a:gradFill rotWithShape="0">
            <a:gsLst>
              <a:gs pos="0">
                <a:srgbClr val="c6cdd4"/>
              </a:gs>
              <a:gs pos="100000">
                <a:srgbClr val="eaf2fa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1214280" y="28584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پايش و ارزشيابي براساس مدل زنجيره‏ا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AutoShape 12"/>
          <p:cNvGrpSpPr/>
          <p:nvPr/>
        </p:nvGrpSpPr>
        <p:grpSpPr>
          <a:xfrm>
            <a:off x="1395360" y="2792520"/>
            <a:ext cx="3762360" cy="938160"/>
            <a:chOff x="1395360" y="2792520"/>
            <a:chExt cx="3762360" cy="938160"/>
          </a:xfrm>
        </p:grpSpPr>
        <p:pic>
          <p:nvPicPr>
            <p:cNvPr id="734" name="AutoShape 12" descr=""/>
            <p:cNvPicPr/>
            <p:nvPr/>
          </p:nvPicPr>
          <p:blipFill>
            <a:blip r:embed="rId1"/>
            <a:stretch/>
          </p:blipFill>
          <p:spPr>
            <a:xfrm>
              <a:off x="1395360" y="2792520"/>
              <a:ext cx="3762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1752480" y="3308400"/>
              <a:ext cx="1828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03000"/>
                  </a:solidFill>
                  <a:latin typeface="Times New Roman"/>
                  <a:cs typeface="Traffic"/>
                </a:rPr>
                <a:t>پاي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AutoShape 13"/>
          <p:cNvGrpSpPr/>
          <p:nvPr/>
        </p:nvGrpSpPr>
        <p:grpSpPr>
          <a:xfrm>
            <a:off x="3986280" y="2792520"/>
            <a:ext cx="4219560" cy="938160"/>
            <a:chOff x="3986280" y="2792520"/>
            <a:chExt cx="4219560" cy="938160"/>
          </a:xfrm>
        </p:grpSpPr>
        <p:pic>
          <p:nvPicPr>
            <p:cNvPr id="737" name="AutoShape 13" descr=""/>
            <p:cNvPicPr/>
            <p:nvPr/>
          </p:nvPicPr>
          <p:blipFill>
            <a:blip r:embed="rId2"/>
            <a:stretch/>
          </p:blipFill>
          <p:spPr>
            <a:xfrm>
              <a:off x="3986280" y="2792520"/>
              <a:ext cx="4219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5753160" y="3308400"/>
              <a:ext cx="2057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raffic"/>
                </a:rPr>
                <a:t>ارزشياب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‏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914B-D964-44CF-9741-212CEFB2D3EA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68360" y="1981080"/>
          <a:ext cx="8447040" cy="4267440"/>
        </p:xfrm>
        <a:graphic>
          <a:graphicData uri="http://schemas.openxmlformats.org/drawingml/2006/table">
            <a:tbl>
              <a:tblPr/>
              <a:tblGrid>
                <a:gridCol w="2111400"/>
                <a:gridCol w="2112840"/>
                <a:gridCol w="1879560"/>
                <a:gridCol w="23432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تناو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عم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زما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3600" spc="-1" strike="noStrike" u="sng">
                          <a:solidFill>
                            <a:srgbClr val="660066"/>
                          </a:solidFill>
                          <a:uFillTx/>
                          <a:latin typeface="Arial"/>
                          <a:cs typeface="Titr"/>
                        </a:rPr>
                        <a:t>وسع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يك‏بار مص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ingle U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ك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جهت‏ د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Directional)</a:t>
                      </a: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لند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ong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استراتژي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trateg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66"/>
                          </a:solidFill>
                          <a:latin typeface="Times New Roman"/>
                          <a:cs typeface="Times New Roman"/>
                        </a:rPr>
                        <a:t>ج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Stand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bad7e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تفصيلي </a:t>
                      </a: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يا خا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Specif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100000">
                          <a:srgbClr val="f7f7c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وتاه مدّ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hort Ter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100000">
                          <a:srgbClr val="bbbbb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800" spc="-1" strike="noStrike">
                          <a:solidFill>
                            <a:srgbClr val="003300"/>
                          </a:solidFill>
                          <a:latin typeface="Times New Roman"/>
                          <a:cs typeface="Times New Roman"/>
                        </a:rPr>
                        <a:t>عمليّ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(Operation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c0f0c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4617b"/>
                </a:solidFill>
                <a:uFillTx/>
                <a:latin typeface="Times New Roman"/>
                <a:cs typeface="Times New Roman"/>
              </a:rPr>
              <a:t>انواع برنامه براساس سطوح سازماني</a:t>
            </a:r>
            <a:endParaRPr b="0" lang="en-US" sz="36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EB5E-6E05-48E6-B47F-2765A608F229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99680" y="1642680"/>
            <a:ext cx="83250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استراتژيك</a:t>
            </a:r>
            <a:r>
              <a:rPr b="1" lang="ar-SA" sz="2600" spc="-1" strike="noStrike" u="sng">
                <a:solidFill>
                  <a:srgbClr val="003300"/>
                </a:solidFill>
                <a:uFillTx/>
                <a:latin typeface="Tw Cen MT"/>
                <a:ea typeface="Jadid"/>
              </a:rPr>
              <a:t> </a:t>
            </a:r>
            <a:r>
              <a:rPr b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Strategic</a:t>
            </a:r>
            <a:r>
              <a:rPr b="1" i="1" lang="en-US" sz="2600" spc="-1" strike="noStrike">
                <a:solidFill>
                  <a:srgbClr val="003300"/>
                </a:solidFill>
                <a:latin typeface="Tw Cen MT"/>
                <a:ea typeface="Jadi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تعيين اهداف بلندمدّت و حياتي سازمان و طريقه نيل به آن، با توجه به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عوامل محيطي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و با درنظر گرفتن آينده سازمان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تاكتيكي </a:t>
            </a:r>
            <a:r>
              <a:rPr b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Tactic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اتخاذ تصميم‏هاي كوتاه مدّت براي حداكثر بهره‏وري از منابع موجود باتوجه به تحوّلات محيط. دراين نوع برنامه‏ريزي </a:t>
            </a:r>
            <a:r>
              <a:rPr b="1" i="1" lang="ar-SA" sz="2200" spc="-1" strike="noStrike" u="sng">
                <a:solidFill>
                  <a:srgbClr val="cc0000"/>
                </a:solidFill>
                <a:uFillTx/>
                <a:latin typeface="Times New Roman"/>
                <a:cs typeface="Times New Roman"/>
              </a:rPr>
              <a:t>وسايل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ans</a:t>
            </a:r>
            <a:r>
              <a:rPr b="1" i="1" lang="ar-SA" sz="2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لازم براي تحقق اهداف استراتژيك مشخص مي‏شود و اين كار سبب هماهنگي واحدهاي سازماني مي‏گرد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در اين حالت تلاش جهت حصول به</a:t>
            </a:r>
            <a:r>
              <a:rPr b="1" i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ين نتايج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است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اثربخشي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3300"/>
                </a:solidFill>
                <a:uFillTx/>
                <a:latin typeface="Times New Roman"/>
                <a:cs typeface="Times New Roman"/>
              </a:rPr>
              <a:t>عملياتي</a:t>
            </a:r>
            <a:r>
              <a:rPr b="1" i="1" lang="ar-SA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perational</a:t>
            </a:r>
            <a:r>
              <a:rPr b="1" i="1" lang="en-US" sz="2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عبارت‏است‏از،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تعيين عمليات (فعّاليّت‏هاي) لازم جهت نيل‏به اهداف استراتژيك، ازطريق وسايل (تاكتيك‏هاي) تعيين‏شده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560520" indent="-5605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در اين حالت تلاش جهت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cs typeface="Times New Roman"/>
              </a:rPr>
              <a:t>بهتر انجام دادن كارها</a:t>
            </a:r>
            <a:r>
              <a:rPr b="1" lang="ar-SA" sz="2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ي‏باشد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ar-SA" sz="2200" spc="-1" strike="noStrike">
                <a:solidFill>
                  <a:srgbClr val="9e0606"/>
                </a:solidFill>
                <a:latin typeface="Times New Roman"/>
                <a:ea typeface="Times New Roman"/>
              </a:rPr>
              <a:t>(كارآيي</a:t>
            </a:r>
            <a:r>
              <a:rPr b="1" i="1" lang="ar-SA" sz="2200" spc="-1" strike="noStrike">
                <a:solidFill>
                  <a:srgbClr val="9e0606"/>
                </a:solidFill>
                <a:latin typeface="Tw Cen MT"/>
                <a:ea typeface="Traffi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نواع برنامه ريزي</a:t>
            </a:r>
            <a:endParaRPr b="0" lang="en-US" sz="4400" spc="-1" strike="noStrike">
              <a:solidFill>
                <a:srgbClr val="04617b"/>
              </a:solidFill>
              <a:latin typeface="Tw Cen MT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BA6B-12B2-4D28-8B42-CDCF2980A34D}" type="slidenum">
              <a:rPr b="1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1928520"/>
            <a:ext cx="81043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w Cen MT"/>
                <a:ea typeface="Arial"/>
              </a:rPr>
              <a:t>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جامع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ين برنامه ريزي خطوط راهنماي كلي و جهت گيري كلي سازمان را مشخص مي سازد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buClr>
                <a:srgbClr val="009d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برنامه ريزي عملياتي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رنامه ريزي عملياتي به فعل درآوردن تصميمات و چهارچوب هاي تعيين شده توسط برنامه ريزي جامع است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هر برنامه جامع جهت تحقق نيازمند برنامه عملياتي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كيب برنامه ريزي جامع و عملياتي را </a:t>
            </a:r>
            <a:r>
              <a:rPr b="1" lang="ar-SA" sz="2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برنامه ريزي تلفيق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ي گويند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06:24:56Z</dcterms:created>
  <dc:creator>DELAVAR</dc:creator>
  <dc:description/>
  <dc:language>en-US</dc:language>
  <cp:lastModifiedBy>banijamali</cp:lastModifiedBy>
  <dcterms:modified xsi:type="dcterms:W3CDTF">2021-05-16T07:45:13Z</dcterms:modified>
  <cp:revision>106</cp:revision>
  <dc:subject/>
  <dc:title>Slide 1</dc:title>
</cp:coreProperties>
</file>